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A94-88F4-4A5E-A393-584052EF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6CFA-993D-4DC0-9D40-AFDFFB03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A01-74DD-4E44-8D4C-8AE83E67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85C7-B2E3-4938-B308-85A1E281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DF0-2C11-4652-A806-F399EC2F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2434-72E1-449F-8432-F1BB917F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409-2F29-45EE-A707-42021946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B43F-369B-424D-A4BE-4013FD58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A84-48C3-4060-A0AC-B3BA6A69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876-D929-49C9-8FD4-86B4A7D1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147-53F3-44CA-8A26-D72C9AFB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D25-D52E-4622-BAEA-DA46E852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5429-9C0A-4D25-BAC4-D3A12D14A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prądu stał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589680" y="746280"/>
            <a:ext cx="794556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jest zjawiskiem szkodliwym, szczególnie pr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łych poziomach sygnałów i dużych wzmocnieni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561960" y="4643280"/>
                <a:ext cx="8294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1855800" y="2825640"/>
            <a:ext cx="1886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84400" y="2697120"/>
            <a:ext cx="228240" cy="259920"/>
            <a:chOff x="2084400" y="2697120"/>
            <a:chExt cx="228240" cy="259920"/>
          </a:xfrm>
        </p:grpSpPr>
        <p:sp>
          <p:nvSpPr>
            <p:cNvPr id="399" name=""/>
            <p:cNvSpPr/>
            <p:nvPr/>
          </p:nvSpPr>
          <p:spPr>
            <a:xfrm>
              <a:off x="2084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42000" y="2826360"/>
              <a:ext cx="114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21981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1981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855800" y="3807000"/>
            <a:ext cx="1886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4140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4140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27440" y="2697120"/>
            <a:ext cx="63000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36800" y="2825640"/>
            <a:ext cx="1889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965400" y="2697120"/>
            <a:ext cx="228240" cy="259920"/>
            <a:chOff x="3965400" y="2697120"/>
            <a:chExt cx="228240" cy="259920"/>
          </a:xfrm>
        </p:grpSpPr>
        <p:sp>
          <p:nvSpPr>
            <p:cNvPr id="409" name=""/>
            <p:cNvSpPr/>
            <p:nvPr/>
          </p:nvSpPr>
          <p:spPr>
            <a:xfrm>
              <a:off x="3965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23360" y="2826360"/>
              <a:ext cx="113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407880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407880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736800" y="3807000"/>
            <a:ext cx="1889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084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19600" y="2825640"/>
            <a:ext cx="188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848200" y="2697120"/>
            <a:ext cx="228240" cy="259920"/>
            <a:chOff x="5848200" y="2697120"/>
            <a:chExt cx="228240" cy="259920"/>
          </a:xfrm>
        </p:grpSpPr>
        <p:sp>
          <p:nvSpPr>
            <p:cNvPr id="417" name=""/>
            <p:cNvSpPr/>
            <p:nvPr/>
          </p:nvSpPr>
          <p:spPr>
            <a:xfrm>
              <a:off x="58482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06160" y="2826360"/>
              <a:ext cx="114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59619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9619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619600" y="3807000"/>
            <a:ext cx="188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5912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719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5188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522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9350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08880" y="3051000"/>
            <a:ext cx="144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426080" y="3051000"/>
            <a:ext cx="824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08880" y="3051000"/>
            <a:ext cx="81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8836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8836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5840" y="2975040"/>
            <a:ext cx="9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82840" y="2927520"/>
            <a:ext cx="10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19160" y="30322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82880" y="29908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53080" y="298944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niejsz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720" y="1752480"/>
            <a:ext cx="8159760" cy="3751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ryftów nie da się wyeliminować całkow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sowanie ujemnych sprzężeń zwrotnych zmniejs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ft wzmocnienia i zmniejsza zmiany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Kompensacja termiczna w obwodach zasilania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ększa stałość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Stosowanie układów kompensujących dry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acniacze różnic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prądu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26440" y="2751120"/>
            <a:ext cx="69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zmacniacze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zmacniacze o sprzężeniach galwan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25440" y="2060640"/>
            <a:ext cx="8490960" cy="3200400"/>
            <a:chOff x="325440" y="2060640"/>
            <a:chExt cx="8490960" cy="3200400"/>
          </a:xfrm>
        </p:grpSpPr>
        <p:sp>
          <p:nvSpPr>
            <p:cNvPr id="445" name=""/>
            <p:cNvSpPr/>
            <p:nvPr/>
          </p:nvSpPr>
          <p:spPr>
            <a:xfrm>
              <a:off x="4745160" y="2212920"/>
              <a:ext cx="1219320" cy="1295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059360" y="2670120"/>
              <a:ext cx="76320" cy="304920"/>
              <a:chOff x="4059360" y="2670120"/>
              <a:chExt cx="76320" cy="304920"/>
            </a:xfrm>
          </p:grpSpPr>
          <p:sp>
            <p:nvSpPr>
              <p:cNvPr id="447" name=""/>
              <p:cNvSpPr/>
              <p:nvPr/>
            </p:nvSpPr>
            <p:spPr>
              <a:xfrm>
                <a:off x="405936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13568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478080" y="5261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55040" y="2746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5440" y="4118040"/>
              <a:ext cx="609480" cy="609480"/>
              <a:chOff x="325440" y="4118040"/>
              <a:chExt cx="609480" cy="609480"/>
            </a:xfrm>
          </p:grpSpPr>
          <p:sp>
            <p:nvSpPr>
              <p:cNvPr id="452" name=""/>
              <p:cNvSpPr/>
              <p:nvPr/>
            </p:nvSpPr>
            <p:spPr>
              <a:xfrm>
                <a:off x="325440" y="4118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30360" y="426996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2382840" y="4118040"/>
              <a:ext cx="609840" cy="609480"/>
              <a:chOff x="2382840" y="4118040"/>
              <a:chExt cx="609840" cy="609480"/>
            </a:xfrm>
          </p:grpSpPr>
          <p:sp>
            <p:nvSpPr>
              <p:cNvPr id="455" name=""/>
              <p:cNvSpPr/>
              <p:nvPr/>
            </p:nvSpPr>
            <p:spPr>
              <a:xfrm>
                <a:off x="2382840" y="4118040"/>
                <a:ext cx="6098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459160" y="434664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48" y="96"/>
                    </a:lnTo>
                    <a:lnTo>
                      <a:pt x="48" y="0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144" y="96"/>
                    </a:lnTo>
                    <a:lnTo>
                      <a:pt x="144" y="0"/>
                    </a:lnTo>
                    <a:lnTo>
                      <a:pt x="192" y="0"/>
                    </a:lnTo>
                    <a:lnTo>
                      <a:pt x="192" y="96"/>
                    </a:lnTo>
                    <a:lnTo>
                      <a:pt x="240" y="96"/>
                    </a:lnTo>
                    <a:lnTo>
                      <a:pt x="240" y="0"/>
                    </a:lnTo>
                    <a:lnTo>
                      <a:pt x="288" y="0"/>
                    </a:lnTo>
                    <a:lnTo>
                      <a:pt x="288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1849680" y="251784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0360" y="282276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2687760" y="3431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0360" y="4727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35480" y="51847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87760" y="4727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35680" y="2822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0216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21680" y="236556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174160" y="282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6448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630360" y="31273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89840" y="46166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04720" y="415944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li nośn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23320" y="3549600"/>
              <a:ext cx="22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 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121960" y="20606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475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479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483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488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491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495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500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y wzmacniacz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0320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6560" y="4587840"/>
            <a:ext cx="425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1456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11456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1456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30320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20960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73656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30320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1640" y="455940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7476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8120" y="3519360"/>
            <a:ext cx="58680" cy="558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38120" y="2057400"/>
            <a:ext cx="43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7476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0960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448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2584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62584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2584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81448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72088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224784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81448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8604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89400" y="314496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8604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2088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03200" y="3171960"/>
            <a:ext cx="944640" cy="377640"/>
          </a:xfrm>
          <a:custGeom>
            <a:avLst/>
            <a:gdLst/>
            <a:ahLst/>
            <a:rect l="l" t="t" r="r" b="b"/>
            <a:pathLst>
              <a:path w="595" h="238">
                <a:moveTo>
                  <a:pt x="0" y="0"/>
                </a:moveTo>
                <a:lnTo>
                  <a:pt x="476" y="0"/>
                </a:lnTo>
                <a:lnTo>
                  <a:pt x="476" y="238"/>
                </a:lnTo>
                <a:lnTo>
                  <a:pt x="595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27560" y="3738600"/>
            <a:ext cx="144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38560" y="3360600"/>
            <a:ext cx="180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138560" y="336024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38560" y="354960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4327560" y="3642840"/>
            <a:ext cx="14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231800" y="3738600"/>
            <a:ext cx="95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760560" y="3549600"/>
            <a:ext cx="37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334040" y="2131560"/>
            <a:ext cx="144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9732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9732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3216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14480" y="3171960"/>
            <a:ext cx="946440" cy="377640"/>
          </a:xfrm>
          <a:custGeom>
            <a:avLst/>
            <a:gdLst/>
            <a:ahLst/>
            <a:rect l="l" t="t" r="r" b="b"/>
            <a:pathLst>
              <a:path w="596" h="238">
                <a:moveTo>
                  <a:pt x="0" y="0"/>
                </a:moveTo>
                <a:lnTo>
                  <a:pt x="477" y="0"/>
                </a:lnTo>
                <a:lnTo>
                  <a:pt x="477" y="238"/>
                </a:lnTo>
                <a:lnTo>
                  <a:pt x="596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59360" y="456264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27560" y="3171960"/>
            <a:ext cx="66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9360" y="3146400"/>
            <a:ext cx="58680" cy="54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03200" y="2131920"/>
            <a:ext cx="444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15000" y="210672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6828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77956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96800" y="595152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LATEGO praktycznie nie stos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95320" y="4932360"/>
            <a:ext cx="51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oblemy z polaryzacją tranzystor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LBRZYMI wpływ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3360" y="313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uwniki poziomów napię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09880" y="1716120"/>
            <a:ext cx="1067040" cy="12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276360" y="202104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004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767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767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43200" y="3392640"/>
            <a:ext cx="373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1240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1240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240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2004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8195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814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1814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814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3341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2578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8769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2767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1411200"/>
            <a:ext cx="3201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578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341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41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41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34120" y="20210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7147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52960" y="3371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8612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5764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531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10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103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5804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458040" y="13921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53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7957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18600" y="1884240"/>
            <a:ext cx="27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6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51400" y="218916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0.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14640" y="257004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suw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93840" y="272268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zio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38480" y="5013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581280" y="623052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86200" y="4708440"/>
            <a:ext cx="14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3886200" y="47084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86200" y="48610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4937040"/>
            <a:ext cx="1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962160" y="501336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580920" y="486108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038480" y="425124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5284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14720" y="621180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57520" y="4836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5165640"/>
            <a:ext cx="152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924360" y="5713560"/>
            <a:ext cx="228600" cy="370800"/>
            <a:chOff x="3924360" y="5713560"/>
            <a:chExt cx="228600" cy="370800"/>
          </a:xfrm>
        </p:grpSpPr>
        <p:sp>
          <p:nvSpPr>
            <p:cNvPr id="609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24360" y="571356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4002120" y="5784840"/>
              <a:ext cx="71280" cy="222840"/>
              <a:chOff x="4002120" y="5784840"/>
              <a:chExt cx="71280" cy="222840"/>
            </a:xfrm>
          </p:grpSpPr>
          <p:sp>
            <p:nvSpPr>
              <p:cNvPr id="613" name=""/>
              <p:cNvSpPr/>
              <p:nvPr/>
            </p:nvSpPr>
            <p:spPr>
              <a:xfrm flipV="1">
                <a:off x="4040280" y="5784840"/>
                <a:ext cx="1440" cy="21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4002120" y="5941440"/>
                <a:ext cx="3816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4040280" y="5941440"/>
                <a:ext cx="3312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6" name=""/>
          <p:cNvSpPr/>
          <p:nvPr/>
        </p:nvSpPr>
        <p:spPr>
          <a:xfrm>
            <a:off x="4038480" y="554688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22936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22936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428640" y="5410080"/>
            <a:ext cx="133920" cy="242640"/>
            <a:chOff x="3428640" y="5410080"/>
            <a:chExt cx="133920" cy="242640"/>
          </a:xfrm>
        </p:grpSpPr>
        <p:sp>
          <p:nvSpPr>
            <p:cNvPr id="620" name=""/>
            <p:cNvSpPr/>
            <p:nvPr/>
          </p:nvSpPr>
          <p:spPr>
            <a:xfrm>
              <a:off x="3428640" y="5410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5320" y="5530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504960" y="5013360"/>
            <a:ext cx="152640" cy="1066680"/>
            <a:chOff x="3504960" y="5013360"/>
            <a:chExt cx="152640" cy="1066680"/>
          </a:xfrm>
        </p:grpSpPr>
        <p:sp>
          <p:nvSpPr>
            <p:cNvPr id="623" name=""/>
            <p:cNvSpPr/>
            <p:nvPr/>
          </p:nvSpPr>
          <p:spPr>
            <a:xfrm>
              <a:off x="3581280" y="501336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3504960" y="501336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81280" y="501336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181480" y="5622480"/>
            <a:ext cx="152640" cy="531720"/>
            <a:chOff x="5181480" y="5622480"/>
            <a:chExt cx="152640" cy="531720"/>
          </a:xfrm>
        </p:grpSpPr>
        <p:sp>
          <p:nvSpPr>
            <p:cNvPr id="627" name=""/>
            <p:cNvSpPr/>
            <p:nvPr/>
          </p:nvSpPr>
          <p:spPr>
            <a:xfrm flipV="1">
              <a:off x="5257800" y="5622480"/>
              <a:ext cx="1440" cy="5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18148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5780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5333760" y="5791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410080" y="5911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90760" y="5257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66720" y="57913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14440" y="4191120"/>
            <a:ext cx="34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14720" y="422748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5400" y="1828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04560" y="495288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657240" y="2057400"/>
            <a:ext cx="152640" cy="1066680"/>
            <a:chOff x="3657240" y="2057400"/>
            <a:chExt cx="152640" cy="1066680"/>
          </a:xfrm>
        </p:grpSpPr>
        <p:sp>
          <p:nvSpPr>
            <p:cNvPr id="639" name=""/>
            <p:cNvSpPr/>
            <p:nvPr/>
          </p:nvSpPr>
          <p:spPr>
            <a:xfrm>
              <a:off x="3733560" y="205740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3657240" y="205740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733560" y="205740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6095880" y="4648320"/>
                <a:ext cx="21258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=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- 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R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0,7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348640" y="2438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70120" y="1565280"/>
            <a:ext cx="198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zawsz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17960" y="3433680"/>
            <a:ext cx="43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la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0 wzmacniacz nie dzia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16480" y="1380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1472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yzacja wejść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76920" y="2270160"/>
            <a:ext cx="8084160" cy="1922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Do wejścia każdego wzmacniacza prądu stałego dołączone s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ktrody sterujące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ależy je tak połączyć aby umożliwić przepły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prądów polaryzacji (wejściowe prądy polaryzacj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642760" y="1611360"/>
            <a:ext cx="160920" cy="162000"/>
            <a:chOff x="2642760" y="1611360"/>
            <a:chExt cx="160920" cy="162000"/>
          </a:xfrm>
        </p:grpSpPr>
        <p:sp>
          <p:nvSpPr>
            <p:cNvPr id="652" name=""/>
            <p:cNvSpPr/>
            <p:nvPr/>
          </p:nvSpPr>
          <p:spPr>
            <a:xfrm>
              <a:off x="2722680" y="1611360"/>
              <a:ext cx="144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43120" y="1611360"/>
              <a:ext cx="795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2642760" y="169056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43120" y="177156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643120" y="173196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22680" y="1690560"/>
              <a:ext cx="8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803680" y="1690560"/>
            <a:ext cx="199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003480" y="1209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643120" y="120960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643120" y="177156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43120" y="217332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63880" y="13701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83760" y="1459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44880" y="11779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40400" y="1089000"/>
            <a:ext cx="1440" cy="1084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87760" y="2100240"/>
            <a:ext cx="16448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6051240" y="2062080"/>
            <a:ext cx="810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051240" y="2101680"/>
            <a:ext cx="81000" cy="4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600080" y="1089000"/>
            <a:ext cx="3996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40400" y="1092240"/>
            <a:ext cx="4104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48320" y="1289160"/>
            <a:ext cx="402840" cy="160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277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2771"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48120" y="1290600"/>
            <a:ext cx="1800" cy="80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843440" y="1204920"/>
            <a:ext cx="1163520" cy="7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7320" y="1935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45920" y="200808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10000" y="215280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627280" y="118908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89440" y="118908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51200" y="2011320"/>
            <a:ext cx="277920" cy="81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683240" y="1209600"/>
            <a:ext cx="129384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97880" y="1258920"/>
            <a:ext cx="64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    = c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15880" y="1319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37000" y="106848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66520" y="1117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642760" y="2774880"/>
            <a:ext cx="160920" cy="162000"/>
            <a:chOff x="2642760" y="2774880"/>
            <a:chExt cx="160920" cy="162000"/>
          </a:xfrm>
        </p:grpSpPr>
        <p:sp>
          <p:nvSpPr>
            <p:cNvPr id="687" name=""/>
            <p:cNvSpPr/>
            <p:nvPr/>
          </p:nvSpPr>
          <p:spPr>
            <a:xfrm>
              <a:off x="272268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4312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264276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4312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264312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2268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280368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64312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4312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643120" y="3335400"/>
            <a:ext cx="6015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228840" y="331632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627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03480" y="2859120"/>
            <a:ext cx="180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89440" y="3321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924280" y="3011400"/>
            <a:ext cx="160200" cy="162000"/>
            <a:chOff x="2924280" y="3011400"/>
            <a:chExt cx="160200" cy="162000"/>
          </a:xfrm>
        </p:grpSpPr>
        <p:sp>
          <p:nvSpPr>
            <p:cNvPr id="702" name=""/>
            <p:cNvSpPr/>
            <p:nvPr/>
          </p:nvSpPr>
          <p:spPr>
            <a:xfrm>
              <a:off x="2924280" y="3011400"/>
              <a:ext cx="16020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3480" y="3054240"/>
              <a:ext cx="18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2963880" y="305424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03480" y="3054240"/>
              <a:ext cx="414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2746440" y="2514600"/>
            <a:ext cx="13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ływ temperatury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6196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361960" y="2228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327200" y="218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568400" y="2774880"/>
            <a:ext cx="160920" cy="162000"/>
            <a:chOff x="4568400" y="2774880"/>
            <a:chExt cx="160920" cy="162000"/>
          </a:xfrm>
        </p:grpSpPr>
        <p:sp>
          <p:nvSpPr>
            <p:cNvPr id="711" name=""/>
            <p:cNvSpPr/>
            <p:nvPr/>
          </p:nvSpPr>
          <p:spPr>
            <a:xfrm>
              <a:off x="464832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6876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56840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6876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456876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4832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472932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29120" y="237348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56876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6876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68760" y="3335400"/>
            <a:ext cx="881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889520" y="2533680"/>
            <a:ext cx="792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09400" y="262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969080" y="234144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35640" y="331632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552920" y="235260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13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929120" y="285444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848120" y="3054240"/>
            <a:ext cx="162000" cy="122400"/>
            <a:chOff x="4848120" y="3054240"/>
            <a:chExt cx="162000" cy="122400"/>
          </a:xfrm>
        </p:grpSpPr>
        <p:sp>
          <p:nvSpPr>
            <p:cNvPr id="730" name=""/>
            <p:cNvSpPr/>
            <p:nvPr/>
          </p:nvSpPr>
          <p:spPr>
            <a:xfrm>
              <a:off x="4848120" y="3054240"/>
              <a:ext cx="162000" cy="120600"/>
            </a:xfrm>
            <a:custGeom>
              <a:avLst/>
              <a:gdLst/>
              <a:ahLst/>
              <a:rect l="l" t="t" r="r" b="b"/>
              <a:pathLst>
                <a:path w="202" h="152">
                  <a:moveTo>
                    <a:pt x="0" y="0"/>
                  </a:moveTo>
                  <a:lnTo>
                    <a:pt x="202" y="0"/>
                  </a:lnTo>
                  <a:lnTo>
                    <a:pt x="101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48120" y="3174840"/>
              <a:ext cx="162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36196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61760" y="4218120"/>
            <a:ext cx="160920" cy="161640"/>
            <a:chOff x="2561760" y="4218120"/>
            <a:chExt cx="160920" cy="161640"/>
          </a:xfrm>
        </p:grpSpPr>
        <p:sp>
          <p:nvSpPr>
            <p:cNvPr id="734" name=""/>
            <p:cNvSpPr/>
            <p:nvPr/>
          </p:nvSpPr>
          <p:spPr>
            <a:xfrm>
              <a:off x="2643120" y="4218120"/>
              <a:ext cx="180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62120" y="42181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2561760" y="429912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562120" y="43783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562120" y="43387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43120" y="42991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722680" y="42991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924280" y="3817440"/>
            <a:ext cx="1440" cy="481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562120" y="3817800"/>
            <a:ext cx="1800" cy="400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62120" y="437832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562120" y="47800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882880" y="397836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02760" y="4067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963880" y="37861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430440" y="4759200"/>
            <a:ext cx="3996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548080" y="37972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908440" y="37972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2924280" y="42991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2803680" y="4498920"/>
            <a:ext cx="199800" cy="120600"/>
            <a:chOff x="2803680" y="4498920"/>
            <a:chExt cx="199800" cy="120600"/>
          </a:xfrm>
        </p:grpSpPr>
        <p:grpSp>
          <p:nvGrpSpPr>
            <p:cNvPr id="753" name=""/>
            <p:cNvGrpSpPr/>
            <p:nvPr/>
          </p:nvGrpSpPr>
          <p:grpSpPr>
            <a:xfrm>
              <a:off x="2843280" y="4498920"/>
              <a:ext cx="160200" cy="120600"/>
              <a:chOff x="2843280" y="4498920"/>
              <a:chExt cx="160200" cy="120600"/>
            </a:xfrm>
          </p:grpSpPr>
          <p:sp>
            <p:nvSpPr>
              <p:cNvPr id="754" name=""/>
              <p:cNvSpPr/>
              <p:nvPr/>
            </p:nvSpPr>
            <p:spPr>
              <a:xfrm>
                <a:off x="2843280" y="4498920"/>
                <a:ext cx="160200" cy="120600"/>
              </a:xfrm>
              <a:custGeom>
                <a:avLst/>
                <a:gdLst/>
                <a:ahLst/>
                <a:rect l="l" t="t" r="r" b="b"/>
                <a:pathLst>
                  <a:path w="202" h="152">
                    <a:moveTo>
                      <a:pt x="0" y="152"/>
                    </a:moveTo>
                    <a:lnTo>
                      <a:pt x="202" y="152"/>
                    </a:lnTo>
                    <a:lnTo>
                      <a:pt x="101" y="0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843280" y="4498920"/>
                <a:ext cx="160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>
              <a:off x="2803680" y="449892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2522520" y="44989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361600" y="4548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33120" y="4876920"/>
            <a:ext cx="23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dzo dobry w układach dyskret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40820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687560" y="4259160"/>
            <a:ext cx="160560" cy="162000"/>
            <a:chOff x="4687560" y="4259160"/>
            <a:chExt cx="160560" cy="162000"/>
          </a:xfrm>
        </p:grpSpPr>
        <p:sp>
          <p:nvSpPr>
            <p:cNvPr id="762" name=""/>
            <p:cNvSpPr/>
            <p:nvPr/>
          </p:nvSpPr>
          <p:spPr>
            <a:xfrm>
              <a:off x="476892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87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68756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87920" y="4419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68792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768920" y="433872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4848120" y="43387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521028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8792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687920" y="441972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87920" y="48196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48320" y="38973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87920" y="36655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556240" y="48006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3520" y="37576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194440" y="37576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27000" y="3986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5049360" y="4259160"/>
            <a:ext cx="162360" cy="162000"/>
            <a:chOff x="5049360" y="4259160"/>
            <a:chExt cx="162360" cy="162000"/>
          </a:xfrm>
        </p:grpSpPr>
        <p:sp>
          <p:nvSpPr>
            <p:cNvPr id="780" name=""/>
            <p:cNvSpPr/>
            <p:nvPr/>
          </p:nvSpPr>
          <p:spPr>
            <a:xfrm>
              <a:off x="512928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5128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12928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5169960" y="441972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521028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5049360" y="43387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 flipV="1">
            <a:off x="5210280" y="441936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87920" y="4178160"/>
            <a:ext cx="241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929120" y="4178160"/>
            <a:ext cx="180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73520" y="415764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913280" y="431784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 flipV="1">
            <a:off x="464832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687920" y="3817440"/>
            <a:ext cx="414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 flipV="1">
            <a:off x="5169960" y="3817440"/>
            <a:ext cx="3996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21028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93800" y="382572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68920" y="37861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07800" y="3848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341440" y="531180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2622600" y="5897520"/>
            <a:ext cx="159840" cy="162000"/>
            <a:chOff x="2622600" y="5897520"/>
            <a:chExt cx="159840" cy="162000"/>
          </a:xfrm>
        </p:grpSpPr>
        <p:sp>
          <p:nvSpPr>
            <p:cNvPr id="800" name=""/>
            <p:cNvSpPr/>
            <p:nvPr/>
          </p:nvSpPr>
          <p:spPr>
            <a:xfrm>
              <a:off x="2701800" y="5897520"/>
              <a:ext cx="108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22600" y="5897520"/>
              <a:ext cx="792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2622600" y="5977080"/>
              <a:ext cx="792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22600" y="6058080"/>
              <a:ext cx="3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62260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01800" y="5977080"/>
              <a:ext cx="80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2782800" y="5977080"/>
            <a:ext cx="200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143160" y="54165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622600" y="54165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622600" y="6058080"/>
            <a:ext cx="144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622600" y="6459480"/>
            <a:ext cx="8827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81200" y="55357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743200" y="52578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489480" y="643896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06760" y="539604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129120" y="539604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461680" y="5624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982600" y="5897520"/>
            <a:ext cx="162360" cy="162000"/>
            <a:chOff x="2982600" y="5897520"/>
            <a:chExt cx="162360" cy="162000"/>
          </a:xfrm>
        </p:grpSpPr>
        <p:sp>
          <p:nvSpPr>
            <p:cNvPr id="818" name=""/>
            <p:cNvSpPr/>
            <p:nvPr/>
          </p:nvSpPr>
          <p:spPr>
            <a:xfrm>
              <a:off x="3063960" y="5897520"/>
              <a:ext cx="18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063600" y="589752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63960" y="597708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103200" y="605808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314352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982600" y="597708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 flipV="1">
            <a:off x="3143160" y="60577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622600" y="5816520"/>
            <a:ext cx="2397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862360" y="5816520"/>
            <a:ext cx="144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606760" y="5797440"/>
            <a:ext cx="41040" cy="399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47960" y="5958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25830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26226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10356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3143160" y="5456160"/>
            <a:ext cx="414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224520" y="54640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&lt;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47520" y="548640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103560" y="617868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344400" y="5527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02920" y="6215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268800" y="62769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5051520" y="5273280"/>
            <a:ext cx="144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30600" y="527364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4529160" y="5916240"/>
            <a:ext cx="1440" cy="19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30960" y="51624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14760" y="525456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037120" y="525456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051520" y="5916600"/>
            <a:ext cx="1440" cy="208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4514760" y="5654520"/>
            <a:ext cx="538200" cy="263520"/>
            <a:chOff x="4514760" y="5654520"/>
            <a:chExt cx="538200" cy="263520"/>
          </a:xfrm>
        </p:grpSpPr>
        <p:grpSp>
          <p:nvGrpSpPr>
            <p:cNvPr id="847" name=""/>
            <p:cNvGrpSpPr/>
            <p:nvPr/>
          </p:nvGrpSpPr>
          <p:grpSpPr>
            <a:xfrm>
              <a:off x="4530240" y="5756400"/>
              <a:ext cx="160920" cy="161640"/>
              <a:chOff x="4530240" y="5756400"/>
              <a:chExt cx="160920" cy="161640"/>
            </a:xfrm>
          </p:grpSpPr>
          <p:sp>
            <p:nvSpPr>
              <p:cNvPr id="848" name=""/>
              <p:cNvSpPr/>
              <p:nvPr/>
            </p:nvSpPr>
            <p:spPr>
              <a:xfrm>
                <a:off x="4610160" y="575640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530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453024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5306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4530600" y="5874840"/>
                <a:ext cx="18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61016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4691160" y="5835600"/>
              <a:ext cx="199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4890600" y="5756400"/>
              <a:ext cx="162360" cy="161640"/>
              <a:chOff x="4890600" y="5756400"/>
              <a:chExt cx="162360" cy="161640"/>
            </a:xfrm>
          </p:grpSpPr>
          <p:sp>
            <p:nvSpPr>
              <p:cNvPr id="856" name=""/>
              <p:cNvSpPr/>
              <p:nvPr/>
            </p:nvSpPr>
            <p:spPr>
              <a:xfrm>
                <a:off x="4971960" y="5756400"/>
                <a:ext cx="180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4971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97196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50112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5051520" y="5874840"/>
                <a:ext cx="14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489060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4530600" y="5675400"/>
              <a:ext cx="239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770360" y="5675400"/>
              <a:ext cx="1800" cy="16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514760" y="565452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756320" y="5815080"/>
              <a:ext cx="39600" cy="41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 flipH="1" flipV="1">
            <a:off x="4491000" y="531504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45306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50112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5051520" y="5315040"/>
            <a:ext cx="4104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576320" y="54100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397040" y="4986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27120" y="52912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32040" y="6013440"/>
            <a:ext cx="538560" cy="262080"/>
            <a:chOff x="4532040" y="6013440"/>
            <a:chExt cx="538560" cy="262080"/>
          </a:xfrm>
        </p:grpSpPr>
        <p:grpSp>
          <p:nvGrpSpPr>
            <p:cNvPr id="874" name=""/>
            <p:cNvGrpSpPr/>
            <p:nvPr/>
          </p:nvGrpSpPr>
          <p:grpSpPr>
            <a:xfrm>
              <a:off x="4893840" y="6113520"/>
              <a:ext cx="162360" cy="162000"/>
              <a:chOff x="4893840" y="6113520"/>
              <a:chExt cx="162360" cy="162000"/>
            </a:xfrm>
          </p:grpSpPr>
          <p:sp>
            <p:nvSpPr>
              <p:cNvPr id="875" name=""/>
              <p:cNvSpPr/>
              <p:nvPr/>
            </p:nvSpPr>
            <p:spPr>
              <a:xfrm>
                <a:off x="497376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4973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97376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5014440" y="627372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505476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4893840" y="6194520"/>
                <a:ext cx="79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 flipH="1">
              <a:off x="4694040" y="6194520"/>
              <a:ext cx="199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4532040" y="6113520"/>
              <a:ext cx="162360" cy="162000"/>
              <a:chOff x="4532040" y="6113520"/>
              <a:chExt cx="162360" cy="162000"/>
            </a:xfrm>
          </p:grpSpPr>
          <p:sp>
            <p:nvSpPr>
              <p:cNvPr id="883" name=""/>
              <p:cNvSpPr/>
              <p:nvPr/>
            </p:nvSpPr>
            <p:spPr>
              <a:xfrm>
                <a:off x="461340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532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453204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532400" y="6273720"/>
                <a:ext cx="41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453240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613400" y="6194520"/>
                <a:ext cx="81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 flipH="1">
              <a:off x="4812840" y="6033960"/>
              <a:ext cx="241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13200" y="6033960"/>
              <a:ext cx="1800" cy="160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029200" y="601344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88000" y="6173640"/>
              <a:ext cx="4104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45403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40320" y="6521400"/>
            <a:ext cx="8222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0515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262120" y="2590920"/>
            <a:ext cx="21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mpensacja wpływu tempera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565960" y="42670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418000" y="5486400"/>
            <a:ext cx="21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 ze sprzęże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ądowo-równoległ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99760" y="140796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sada dział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893880" y="1787400"/>
          <a:ext cx="7358040" cy="32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1787400"/>
                    <a:ext cx="735804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/>
          <p:nvPr/>
        </p:nvSpPr>
        <p:spPr>
          <a:xfrm>
            <a:off x="2544840" y="558000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-293282"/>
              <a:gd name="adj4" fmla="val -9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1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8200" y="2297160"/>
            <a:ext cx="857268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em prądu stałego nazywamy wzmacniacz sygnałów zawierających składowe 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aczej mówiąc sygnałami wejściowymi w takich wzmacniacz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ą napięcia lub prądy, których zmiany mogą następow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ciągu minut, godzin,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2133720" y="2279520"/>
          <a:ext cx="411480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79520"/>
                    <a:ext cx="41148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"/>
          <p:cNvSpPr/>
          <p:nvPr/>
        </p:nvSpPr>
        <p:spPr>
          <a:xfrm>
            <a:off x="6172200" y="259704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129990"/>
              <a:gd name="adj4" fmla="val -667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2118600" y="2031840"/>
            <a:ext cx="4489560" cy="2819520"/>
            <a:chOff x="2118600" y="2031840"/>
            <a:chExt cx="4489560" cy="2819520"/>
          </a:xfrm>
        </p:grpSpPr>
        <p:grpSp>
          <p:nvGrpSpPr>
            <p:cNvPr id="912" name=""/>
            <p:cNvGrpSpPr/>
            <p:nvPr/>
          </p:nvGrpSpPr>
          <p:grpSpPr>
            <a:xfrm>
              <a:off x="2118600" y="2031840"/>
              <a:ext cx="4489560" cy="2819520"/>
              <a:chOff x="2118600" y="2031840"/>
              <a:chExt cx="4489560" cy="2819520"/>
            </a:xfrm>
          </p:grpSpPr>
          <p:grpSp>
            <p:nvGrpSpPr>
              <p:cNvPr id="913" name=""/>
              <p:cNvGrpSpPr/>
              <p:nvPr/>
            </p:nvGrpSpPr>
            <p:grpSpPr>
              <a:xfrm>
                <a:off x="3564000" y="2107800"/>
                <a:ext cx="152280" cy="1143000"/>
                <a:chOff x="3564000" y="2107800"/>
                <a:chExt cx="152280" cy="1143000"/>
              </a:xfrm>
            </p:grpSpPr>
            <p:sp>
              <p:nvSpPr>
                <p:cNvPr id="914" name=""/>
                <p:cNvSpPr/>
                <p:nvPr/>
              </p:nvSpPr>
              <p:spPr>
                <a:xfrm rot="16200000">
                  <a:off x="3373200" y="26031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V="1">
                  <a:off x="3639960" y="2107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V="1">
                  <a:off x="3639960" y="29462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3411360" y="3250800"/>
                <a:ext cx="228600" cy="457560"/>
                <a:chOff x="3411360" y="3250800"/>
                <a:chExt cx="228600" cy="45756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3411360" y="325116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411360" y="34797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V="1">
                  <a:off x="3411360" y="325080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1" name=""/>
              <p:cNvSpPr/>
              <p:nvPr/>
            </p:nvSpPr>
            <p:spPr>
              <a:xfrm>
                <a:off x="34876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621400" y="3556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3" name=""/>
              <p:cNvGrpSpPr/>
              <p:nvPr/>
            </p:nvGrpSpPr>
            <p:grpSpPr>
              <a:xfrm>
                <a:off x="4782960" y="2870280"/>
                <a:ext cx="228600" cy="457560"/>
                <a:chOff x="4782960" y="2870280"/>
                <a:chExt cx="228600" cy="457560"/>
              </a:xfrm>
            </p:grpSpPr>
            <p:sp>
              <p:nvSpPr>
                <p:cNvPr id="924" name=""/>
                <p:cNvSpPr/>
                <p:nvPr/>
              </p:nvSpPr>
              <p:spPr>
                <a:xfrm flipV="1">
                  <a:off x="4782960" y="287028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V="1">
                  <a:off x="4782960" y="287028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782960" y="30992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3639960" y="21081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1560" y="21081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39960" y="30988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0" name=""/>
              <p:cNvGrpSpPr/>
              <p:nvPr/>
            </p:nvGrpSpPr>
            <p:grpSpPr>
              <a:xfrm>
                <a:off x="3564000" y="3708000"/>
                <a:ext cx="152280" cy="1143000"/>
                <a:chOff x="3564000" y="3708000"/>
                <a:chExt cx="152280" cy="1143000"/>
              </a:xfrm>
            </p:grpSpPr>
            <p:sp>
              <p:nvSpPr>
                <p:cNvPr id="931" name=""/>
                <p:cNvSpPr/>
                <p:nvPr/>
              </p:nvSpPr>
              <p:spPr>
                <a:xfrm rot="16200000">
                  <a:off x="33732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V="1">
                  <a:off x="36399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V="1">
                  <a:off x="36399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4935600" y="3708000"/>
                <a:ext cx="152280" cy="1143000"/>
                <a:chOff x="4935600" y="3708000"/>
                <a:chExt cx="152280" cy="1143000"/>
              </a:xfrm>
            </p:grpSpPr>
            <p:sp>
              <p:nvSpPr>
                <p:cNvPr id="935" name=""/>
                <p:cNvSpPr/>
                <p:nvPr/>
              </p:nvSpPr>
              <p:spPr>
                <a:xfrm rot="16200000">
                  <a:off x="47448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V="1">
                  <a:off x="50115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V="1">
                  <a:off x="50115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8" name=""/>
              <p:cNvSpPr/>
              <p:nvPr/>
            </p:nvSpPr>
            <p:spPr>
              <a:xfrm>
                <a:off x="48592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5011560" y="33271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2877840" y="34797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011560" y="36320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725560" y="34034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773680" y="20318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973760" y="36115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605040" y="30812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118600" y="3840120"/>
                <a:ext cx="67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913720" y="3416400"/>
                <a:ext cx="694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8" name=""/>
            <p:cNvSpPr/>
            <p:nvPr/>
          </p:nvSpPr>
          <p:spPr>
            <a:xfrm>
              <a:off x="4973760" y="2076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6074280" y="41036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188040" y="193824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gadnienie zerowych napięć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720800" y="998640"/>
            <a:ext cx="63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Stosowanie dwóch źródeł zasilających (np. ry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ykorzystanie wzmacniacza różnic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873520" y="2198160"/>
            <a:ext cx="129960" cy="917640"/>
            <a:chOff x="2873520" y="2198160"/>
            <a:chExt cx="129960" cy="917640"/>
          </a:xfrm>
        </p:grpSpPr>
        <p:sp>
          <p:nvSpPr>
            <p:cNvPr id="954" name=""/>
            <p:cNvSpPr/>
            <p:nvPr/>
          </p:nvSpPr>
          <p:spPr>
            <a:xfrm rot="16200000">
              <a:off x="2724480" y="2592360"/>
              <a:ext cx="42804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2938320" y="21981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2938320" y="28713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2743200" y="3115800"/>
            <a:ext cx="195120" cy="367200"/>
            <a:chOff x="2743200" y="3115800"/>
            <a:chExt cx="195120" cy="367200"/>
          </a:xfrm>
        </p:grpSpPr>
        <p:sp>
          <p:nvSpPr>
            <p:cNvPr id="958" name=""/>
            <p:cNvSpPr/>
            <p:nvPr/>
          </p:nvSpPr>
          <p:spPr>
            <a:xfrm>
              <a:off x="2743200" y="311616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743200" y="32994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2743200" y="31158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2038320" y="4610160"/>
            <a:ext cx="26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632480" y="3360600"/>
            <a:ext cx="1299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3914640" y="2809440"/>
            <a:ext cx="195480" cy="367200"/>
            <a:chOff x="3914640" y="2809440"/>
            <a:chExt cx="195480" cy="367200"/>
          </a:xfrm>
        </p:grpSpPr>
        <p:sp>
          <p:nvSpPr>
            <p:cNvPr id="964" name=""/>
            <p:cNvSpPr/>
            <p:nvPr/>
          </p:nvSpPr>
          <p:spPr>
            <a:xfrm flipV="1">
              <a:off x="3914640" y="280944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3914640" y="28098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14640" y="29934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2938320" y="2198520"/>
            <a:ext cx="182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0120" y="2198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38320" y="299412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2873520" y="3483360"/>
            <a:ext cx="129960" cy="915480"/>
            <a:chOff x="2873520" y="3483360"/>
            <a:chExt cx="129960" cy="915480"/>
          </a:xfrm>
        </p:grpSpPr>
        <p:sp>
          <p:nvSpPr>
            <p:cNvPr id="971" name=""/>
            <p:cNvSpPr/>
            <p:nvPr/>
          </p:nvSpPr>
          <p:spPr>
            <a:xfrm rot="16200000">
              <a:off x="2724840" y="3876480"/>
              <a:ext cx="42732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29383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29383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044960" y="3483360"/>
            <a:ext cx="130320" cy="915480"/>
            <a:chOff x="4044960" y="3483360"/>
            <a:chExt cx="130320" cy="915480"/>
          </a:xfrm>
        </p:grpSpPr>
        <p:sp>
          <p:nvSpPr>
            <p:cNvPr id="975" name=""/>
            <p:cNvSpPr/>
            <p:nvPr/>
          </p:nvSpPr>
          <p:spPr>
            <a:xfrm rot="16200000">
              <a:off x="3896280" y="3876120"/>
              <a:ext cx="42732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41101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41101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 flipV="1">
            <a:off x="4110120" y="317664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2286000" y="329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10120" y="3421080"/>
            <a:ext cx="5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55680" y="323856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762440" y="213840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078440" y="3405240"/>
            <a:ext cx="6480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908440" y="29797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64480" y="35877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831200" y="36180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78440" y="21733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949480" y="5221440"/>
            <a:ext cx="17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726080" y="515952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071960" y="518148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110120" y="4327560"/>
            <a:ext cx="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933640" y="4313160"/>
            <a:ext cx="0" cy="90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193840" y="4370400"/>
            <a:ext cx="40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79800" y="437040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5991120" y="4633920"/>
            <a:ext cx="520920" cy="488880"/>
            <a:chOff x="5991120" y="4633920"/>
            <a:chExt cx="520920" cy="488880"/>
          </a:xfrm>
        </p:grpSpPr>
        <p:sp>
          <p:nvSpPr>
            <p:cNvPr id="996" name=""/>
            <p:cNvSpPr/>
            <p:nvPr/>
          </p:nvSpPr>
          <p:spPr>
            <a:xfrm>
              <a:off x="5991120" y="4633920"/>
              <a:ext cx="52092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251760" y="475560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5970600" y="2478240"/>
            <a:ext cx="522360" cy="488880"/>
            <a:chOff x="5970600" y="2478240"/>
            <a:chExt cx="522360" cy="488880"/>
          </a:xfrm>
        </p:grpSpPr>
        <p:sp>
          <p:nvSpPr>
            <p:cNvPr id="999" name=""/>
            <p:cNvSpPr/>
            <p:nvPr/>
          </p:nvSpPr>
          <p:spPr>
            <a:xfrm>
              <a:off x="5970600" y="2478240"/>
              <a:ext cx="52236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231960" y="259992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6235560" y="2970360"/>
            <a:ext cx="0" cy="16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863960" y="523224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6249960" y="5119200"/>
            <a:ext cx="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908600" y="2219400"/>
            <a:ext cx="13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221520" y="223344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200640" y="4334040"/>
            <a:ext cx="651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630120" y="24433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667920" y="47293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209680" y="3449520"/>
            <a:ext cx="0" cy="849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4676760" y="3501720"/>
            <a:ext cx="0" cy="77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6256440" y="4250160"/>
            <a:ext cx="271440" cy="244440"/>
            <a:chOff x="6256440" y="4250160"/>
            <a:chExt cx="271440" cy="244440"/>
          </a:xfrm>
        </p:grpSpPr>
        <p:sp>
          <p:nvSpPr>
            <p:cNvPr id="1012" name=""/>
            <p:cNvSpPr/>
            <p:nvPr/>
          </p:nvSpPr>
          <p:spPr>
            <a:xfrm flipV="1">
              <a:off x="6512760" y="425016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56440" y="43614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577960" y="5692680"/>
            <a:ext cx="451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uzyskać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prz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45400" y="1393920"/>
            <a:ext cx="1092240" cy="2063520"/>
          </a:xfrm>
          <a:custGeom>
            <a:avLst/>
            <a:gdLst/>
            <a:ahLst/>
            <a:rect l="l" t="t" r="r" b="b"/>
            <a:pathLst>
              <a:path w="688" h="1300">
                <a:moveTo>
                  <a:pt x="600" y="0"/>
                </a:moveTo>
                <a:cubicBezTo>
                  <a:pt x="644" y="175"/>
                  <a:pt x="688" y="350"/>
                  <a:pt x="666" y="511"/>
                </a:cubicBezTo>
                <a:cubicBezTo>
                  <a:pt x="644" y="672"/>
                  <a:pt x="577" y="835"/>
                  <a:pt x="466" y="966"/>
                </a:cubicBezTo>
                <a:cubicBezTo>
                  <a:pt x="355" y="1097"/>
                  <a:pt x="177" y="1198"/>
                  <a:pt x="0" y="130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pięcia niezrównowa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016080" y="1182600"/>
            <a:ext cx="0" cy="400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00120" y="3298680"/>
            <a:ext cx="520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35040" y="31179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13360" y="1019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11080" y="3298680"/>
            <a:ext cx="2205000" cy="157032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10800000">
            <a:off x="3018960" y="1714320"/>
            <a:ext cx="2205000" cy="156996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1333440" y="1725120"/>
            <a:ext cx="4412880" cy="3154680"/>
            <a:chOff x="1333440" y="1725120"/>
            <a:chExt cx="4412880" cy="3154680"/>
          </a:xfrm>
        </p:grpSpPr>
        <p:sp>
          <p:nvSpPr>
            <p:cNvPr id="1024" name=""/>
            <p:cNvSpPr/>
            <p:nvPr/>
          </p:nvSpPr>
          <p:spPr>
            <a:xfrm>
              <a:off x="1333440" y="330984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0800000">
              <a:off x="3541320" y="172512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3146400" y="283536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016080" y="3316320"/>
            <a:ext cx="5461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568520" y="5511960"/>
            <a:ext cx="5673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y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222360" y="401148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3016080" y="3315960"/>
            <a:ext cx="0" cy="863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5014800" y="3697200"/>
                <a:ext cx="1581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2" name=""/>
          <p:cNvSpPr/>
          <p:nvPr/>
        </p:nvSpPr>
        <p:spPr>
          <a:xfrm>
            <a:off x="3898800" y="2768760"/>
            <a:ext cx="21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3898800" y="2346120"/>
            <a:ext cx="73188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621320" y="23637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946760" y="225252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5033880" y="4761000"/>
                <a:ext cx="2608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945720" y="1085760"/>
            <a:ext cx="4521240" cy="1866960"/>
            <a:chOff x="945720" y="1085760"/>
            <a:chExt cx="4521240" cy="1866960"/>
          </a:xfrm>
        </p:grpSpPr>
        <p:sp>
          <p:nvSpPr>
            <p:cNvPr id="1039" name=""/>
            <p:cNvSpPr/>
            <p:nvPr/>
          </p:nvSpPr>
          <p:spPr>
            <a:xfrm>
              <a:off x="2641680" y="1351080"/>
              <a:ext cx="99072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098880" y="249408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022560" y="2722680"/>
              <a:ext cx="152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127008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1193760" y="2798640"/>
              <a:ext cx="152640" cy="154080"/>
              <a:chOff x="1193760" y="2798640"/>
              <a:chExt cx="152640" cy="154080"/>
            </a:xfrm>
          </p:grpSpPr>
          <p:sp>
            <p:nvSpPr>
              <p:cNvPr id="1044" name=""/>
              <p:cNvSpPr/>
              <p:nvPr/>
            </p:nvSpPr>
            <p:spPr>
              <a:xfrm>
                <a:off x="12700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1937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1727280" y="2798640"/>
              <a:ext cx="152280" cy="154080"/>
              <a:chOff x="1727280" y="2798640"/>
              <a:chExt cx="152280" cy="154080"/>
            </a:xfrm>
          </p:grpSpPr>
          <p:sp>
            <p:nvSpPr>
              <p:cNvPr id="1047" name=""/>
              <p:cNvSpPr/>
              <p:nvPr/>
            </p:nvSpPr>
            <p:spPr>
              <a:xfrm>
                <a:off x="18036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2728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 flipH="1">
              <a:off x="18036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44520" y="147636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4452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77804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78040" y="231444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63240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27320" y="2798640"/>
              <a:ext cx="152280" cy="154080"/>
              <a:chOff x="4927320" y="2798640"/>
              <a:chExt cx="152280" cy="154080"/>
            </a:xfrm>
          </p:grpSpPr>
          <p:sp>
            <p:nvSpPr>
              <p:cNvPr id="1056" name=""/>
              <p:cNvSpPr/>
              <p:nvPr/>
            </p:nvSpPr>
            <p:spPr>
              <a:xfrm>
                <a:off x="50040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492732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4394160" y="2798640"/>
              <a:ext cx="152640" cy="154080"/>
              <a:chOff x="4394160" y="2798640"/>
              <a:chExt cx="152640" cy="154080"/>
            </a:xfrm>
          </p:grpSpPr>
          <p:sp>
            <p:nvSpPr>
              <p:cNvPr id="1059" name=""/>
              <p:cNvSpPr/>
              <p:nvPr/>
            </p:nvSpPr>
            <p:spPr>
              <a:xfrm>
                <a:off x="44704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43941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36324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77000" y="147636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8636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443480" y="276228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43480" y="231444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79840" y="143352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79840" y="22334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945720" y="2176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041440" y="2081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946320" y="248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37200" y="21636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060920" y="229716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60800" y="25830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94400" y="262080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898280" y="2500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1406520" y="1657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1816200" y="24289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4464000" y="2428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4997520" y="1628640"/>
              <a:ext cx="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464000" y="1590840"/>
              <a:ext cx="0" cy="599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199760" y="110484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707480" y="10857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1800" spc="-1" strike="noStrike" baseline="-25000">
                  <a:solidFill>
                    <a:srgbClr val="3333cc"/>
                  </a:solidFill>
                  <a:latin typeface="Times New Roman"/>
                </a:rPr>
                <a:t>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1825560" y="1542600"/>
              <a:ext cx="0" cy="68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5916600" y="1262160"/>
                <a:ext cx="28368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5" name=""/>
          <p:cNvSpPr/>
          <p:nvPr/>
        </p:nvSpPr>
        <p:spPr>
          <a:xfrm flipH="1">
            <a:off x="1521000" y="4713120"/>
            <a:ext cx="398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1521000" y="4713120"/>
            <a:ext cx="144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919160" y="4259160"/>
            <a:ext cx="3240" cy="99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19160" y="4259160"/>
            <a:ext cx="179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1420920" y="5619600"/>
            <a:ext cx="199440" cy="182160"/>
            <a:chOff x="1420920" y="5619600"/>
            <a:chExt cx="199440" cy="182160"/>
          </a:xfrm>
        </p:grpSpPr>
        <p:sp>
          <p:nvSpPr>
            <p:cNvPr id="1090" name=""/>
            <p:cNvSpPr/>
            <p:nvPr/>
          </p:nvSpPr>
          <p:spPr>
            <a:xfrm>
              <a:off x="1520280" y="5619600"/>
              <a:ext cx="21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420920" y="5799960"/>
              <a:ext cx="19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1919160" y="5256360"/>
            <a:ext cx="179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886040" y="422748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487520" y="5575320"/>
            <a:ext cx="6840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718080" y="4259160"/>
            <a:ext cx="1100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718080" y="5256360"/>
            <a:ext cx="1100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3019320" y="4078440"/>
            <a:ext cx="1298160" cy="1632960"/>
            <a:chOff x="3019320" y="4078440"/>
            <a:chExt cx="1298160" cy="1632960"/>
          </a:xfrm>
        </p:grpSpPr>
        <p:sp>
          <p:nvSpPr>
            <p:cNvPr id="1098" name=""/>
            <p:cNvSpPr/>
            <p:nvPr/>
          </p:nvSpPr>
          <p:spPr>
            <a:xfrm>
              <a:off x="3019320" y="4078440"/>
              <a:ext cx="1298160" cy="135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18360" y="5437800"/>
              <a:ext cx="2160" cy="2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518640" y="5709960"/>
              <a:ext cx="19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066480" y="417636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066480" y="51278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370160" y="4938840"/>
            <a:ext cx="299520" cy="272520"/>
            <a:chOff x="1370160" y="4938840"/>
            <a:chExt cx="299520" cy="272520"/>
          </a:xfrm>
        </p:grpSpPr>
        <p:sp>
          <p:nvSpPr>
            <p:cNvPr id="1104" name=""/>
            <p:cNvSpPr/>
            <p:nvPr/>
          </p:nvSpPr>
          <p:spPr>
            <a:xfrm>
              <a:off x="1370160" y="4938840"/>
              <a:ext cx="299520" cy="272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443960" y="495396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2270160" y="5121360"/>
            <a:ext cx="299520" cy="271080"/>
            <a:chOff x="2270160" y="5121360"/>
            <a:chExt cx="299520" cy="271080"/>
          </a:xfrm>
        </p:grpSpPr>
        <p:sp>
          <p:nvSpPr>
            <p:cNvPr id="1107" name=""/>
            <p:cNvSpPr/>
            <p:nvPr/>
          </p:nvSpPr>
          <p:spPr>
            <a:xfrm>
              <a:off x="2270160" y="5121360"/>
              <a:ext cx="299520" cy="27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342520" y="513612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1886040" y="522432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886040" y="4680000"/>
            <a:ext cx="6984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2270160" y="4124160"/>
            <a:ext cx="299520" cy="271440"/>
            <a:chOff x="2270160" y="4124160"/>
            <a:chExt cx="299520" cy="271440"/>
          </a:xfrm>
        </p:grpSpPr>
        <p:sp>
          <p:nvSpPr>
            <p:cNvPr id="1112" name=""/>
            <p:cNvSpPr/>
            <p:nvPr/>
          </p:nvSpPr>
          <p:spPr>
            <a:xfrm>
              <a:off x="2270160" y="4124160"/>
              <a:ext cx="29952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342520" y="413928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2119320" y="5438880"/>
            <a:ext cx="60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2119320" y="5346720"/>
            <a:ext cx="100080" cy="9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119320" y="5438880"/>
            <a:ext cx="100080" cy="9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2144520" y="3965400"/>
            <a:ext cx="599400" cy="180720"/>
            <a:chOff x="2144520" y="3965400"/>
            <a:chExt cx="599400" cy="180720"/>
          </a:xfrm>
        </p:grpSpPr>
        <p:sp>
          <p:nvSpPr>
            <p:cNvPr id="1118" name=""/>
            <p:cNvSpPr/>
            <p:nvPr/>
          </p:nvSpPr>
          <p:spPr>
            <a:xfrm flipH="1">
              <a:off x="2144520" y="4056120"/>
              <a:ext cx="5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 flipV="1">
              <a:off x="2644560" y="3965400"/>
              <a:ext cx="993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2644560" y="4056120"/>
              <a:ext cx="9936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1" name=""/>
          <p:cNvSpPr/>
          <p:nvPr/>
        </p:nvSpPr>
        <p:spPr>
          <a:xfrm flipV="1">
            <a:off x="4782960" y="4438800"/>
            <a:ext cx="0" cy="714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344120" y="334800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26640" y="3324240"/>
            <a:ext cx="59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2805120" y="4320720"/>
            <a:ext cx="0" cy="816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1986120" y="330192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049480" y="5508720"/>
                <a:ext cx="7430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500040" y="4842000"/>
                <a:ext cx="749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6130800" y="3522600"/>
                <a:ext cx="173520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586040" y="445608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4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179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182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195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24512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9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244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247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260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3962520" y="4400640"/>
            <a:ext cx="493560" cy="740880"/>
            <a:chOff x="3962520" y="4400640"/>
            <a:chExt cx="493560" cy="740880"/>
          </a:xfrm>
        </p:grpSpPr>
        <p:sp>
          <p:nvSpPr>
            <p:cNvPr id="1264" name=""/>
            <p:cNvSpPr/>
            <p:nvPr/>
          </p:nvSpPr>
          <p:spPr>
            <a:xfrm flipV="1">
              <a:off x="3962520" y="464760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209120" y="4524480"/>
              <a:ext cx="0" cy="49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3962520" y="440064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4216320" y="39513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233960" y="5167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560480" y="45277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452400" y="46339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454640" y="2549520"/>
            <a:ext cx="61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3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994560" y="2851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4020840" y="282240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318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321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3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334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rot="16200000">
            <a:off x="4114800" y="23317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046760" y="1989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75080" y="336852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073480" y="339876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937240" y="354168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277240" y="353700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568400" y="45640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ałosygnałowy 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227560" y="2060640"/>
            <a:ext cx="32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3613320" y="2060640"/>
            <a:ext cx="14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09800" y="3381480"/>
            <a:ext cx="1077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987640" y="3381480"/>
            <a:ext cx="180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987640" y="4503600"/>
            <a:ext cx="2867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5854680" y="3381120"/>
            <a:ext cx="324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854680" y="3381480"/>
            <a:ext cx="9874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5046840" y="3586320"/>
            <a:ext cx="361440" cy="612000"/>
            <a:chOff x="5046840" y="3586320"/>
            <a:chExt cx="361440" cy="612000"/>
          </a:xfrm>
        </p:grpSpPr>
        <p:sp>
          <p:nvSpPr>
            <p:cNvPr id="1353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046840" y="3787920"/>
              <a:ext cx="3614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430440" y="3586320"/>
            <a:ext cx="363240" cy="612000"/>
            <a:chOff x="3430440" y="3586320"/>
            <a:chExt cx="363240" cy="612000"/>
          </a:xfrm>
        </p:grpSpPr>
        <p:sp>
          <p:nvSpPr>
            <p:cNvPr id="1357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430440" y="3787920"/>
              <a:ext cx="3632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35226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1372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525840" y="2060640"/>
            <a:ext cx="17784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137200" y="2060640"/>
            <a:ext cx="1792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268360" y="3279600"/>
            <a:ext cx="360720" cy="20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894040" y="3686040"/>
            <a:ext cx="18396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765760" y="3686040"/>
            <a:ext cx="17928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419720" y="4503600"/>
            <a:ext cx="144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332240" y="5522760"/>
            <a:ext cx="179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29000" y="4910040"/>
            <a:ext cx="182520" cy="40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570120" y="4454640"/>
            <a:ext cx="8748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1814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3750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181480" y="2924280"/>
            <a:ext cx="921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570120" y="2924280"/>
            <a:ext cx="8748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865160" y="3332160"/>
            <a:ext cx="8892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97520" y="3332160"/>
            <a:ext cx="8748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822320" y="4707000"/>
            <a:ext cx="1796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51800" y="4707000"/>
            <a:ext cx="177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2627280" y="3687840"/>
            <a:ext cx="178560" cy="510840"/>
            <a:chOff x="2627280" y="3687840"/>
            <a:chExt cx="178560" cy="510840"/>
          </a:xfrm>
        </p:grpSpPr>
        <p:sp>
          <p:nvSpPr>
            <p:cNvPr id="1380" name=""/>
            <p:cNvSpPr/>
            <p:nvPr/>
          </p:nvSpPr>
          <p:spPr>
            <a:xfrm>
              <a:off x="2716560" y="3687840"/>
              <a:ext cx="1440" cy="51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262728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71656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6122880" y="3687840"/>
            <a:ext cx="1800" cy="5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6035760" y="3687840"/>
            <a:ext cx="8712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122880" y="3687840"/>
            <a:ext cx="9216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3255480" y="2262240"/>
            <a:ext cx="177480" cy="509040"/>
            <a:chOff x="3255480" y="2262240"/>
            <a:chExt cx="177480" cy="509040"/>
          </a:xfrm>
        </p:grpSpPr>
        <p:sp>
          <p:nvSpPr>
            <p:cNvPr id="1387" name=""/>
            <p:cNvSpPr/>
            <p:nvPr/>
          </p:nvSpPr>
          <p:spPr>
            <a:xfrm flipV="1">
              <a:off x="3345480" y="2262240"/>
              <a:ext cx="144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 flipV="1">
              <a:off x="3255480" y="2671200"/>
              <a:ext cx="8964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3345480" y="2671200"/>
              <a:ext cx="8748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5405400" y="2262240"/>
            <a:ext cx="180720" cy="509040"/>
            <a:chOff x="5405400" y="2262240"/>
            <a:chExt cx="180720" cy="509040"/>
          </a:xfrm>
        </p:grpSpPr>
        <p:sp>
          <p:nvSpPr>
            <p:cNvPr id="1391" name=""/>
            <p:cNvSpPr/>
            <p:nvPr/>
          </p:nvSpPr>
          <p:spPr>
            <a:xfrm flipV="1">
              <a:off x="5497560" y="2262240"/>
              <a:ext cx="216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 flipV="1">
              <a:off x="5405400" y="2671200"/>
              <a:ext cx="921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5497560" y="2671200"/>
              <a:ext cx="885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379188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97116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77756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95540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23016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38500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951240" y="399240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455480" y="397368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286520" y="247032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699880" y="226044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918520" y="236052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33640" y="4097160"/>
            <a:ext cx="695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68960" y="3373560"/>
            <a:ext cx="695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3848040" y="2809800"/>
            <a:ext cx="111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rot="16200000">
            <a:off x="4264560" y="2775240"/>
            <a:ext cx="181080" cy="411120"/>
          </a:xfrm>
          <a:prstGeom prst="rect">
            <a:avLst/>
          </a:prstGeom>
          <a:solidFill>
            <a:srgbClr val="ffffff"/>
          </a:solidFill>
          <a:ln w="27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610080" y="2981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4552560" y="297180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1905120" y="3610080"/>
            <a:ext cx="0" cy="1000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6838920" y="3552480"/>
            <a:ext cx="0" cy="1009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54760" y="201924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105280" y="2795760"/>
            <a:ext cx="53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b’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784120" y="291456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b’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222640" y="411480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985000" y="423864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610080" y="369576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248440" y="37432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689480" y="5800680"/>
            <a:ext cx="644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k pojemności w modelach tranzystoró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kres małych i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717800" y="5052960"/>
            <a:ext cx="109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lub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038320" y="3381480"/>
            <a:ext cx="142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249560" y="3257640"/>
            <a:ext cx="46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632480" y="3432240"/>
            <a:ext cx="1330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4938840" y="3219480"/>
            <a:ext cx="411120" cy="487800"/>
            <a:chOff x="4938840" y="3219480"/>
            <a:chExt cx="411120" cy="487800"/>
          </a:xfrm>
        </p:grpSpPr>
        <p:sp>
          <p:nvSpPr>
            <p:cNvPr id="1427" name=""/>
            <p:cNvSpPr/>
            <p:nvPr/>
          </p:nvSpPr>
          <p:spPr>
            <a:xfrm>
              <a:off x="4938840" y="322740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111640" y="32194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9" name=""/>
          <p:cNvSpPr/>
          <p:nvPr/>
        </p:nvSpPr>
        <p:spPr>
          <a:xfrm>
            <a:off x="4632480" y="3330720"/>
            <a:ext cx="1440" cy="2044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4888080" y="3687840"/>
            <a:ext cx="512640" cy="204840"/>
            <a:chOff x="4888080" y="3687840"/>
            <a:chExt cx="512640" cy="204840"/>
          </a:xfrm>
        </p:grpSpPr>
        <p:sp>
          <p:nvSpPr>
            <p:cNvPr id="1431" name=""/>
            <p:cNvSpPr/>
            <p:nvPr/>
          </p:nvSpPr>
          <p:spPr>
            <a:xfrm>
              <a:off x="4888080" y="3790800"/>
              <a:ext cx="51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 flipV="1">
              <a:off x="5297040" y="3687840"/>
              <a:ext cx="103320" cy="10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5297040" y="37908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5911920" y="3381480"/>
            <a:ext cx="1029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5962680" y="2612520"/>
            <a:ext cx="1440" cy="1638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962680" y="425124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962680" y="261288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5757840" y="2809800"/>
            <a:ext cx="411120" cy="419040"/>
            <a:chOff x="5757840" y="2809800"/>
            <a:chExt cx="411120" cy="419040"/>
          </a:xfrm>
        </p:grpSpPr>
        <p:sp>
          <p:nvSpPr>
            <p:cNvPr id="1439" name=""/>
            <p:cNvSpPr/>
            <p:nvPr/>
          </p:nvSpPr>
          <p:spPr>
            <a:xfrm>
              <a:off x="5757840" y="281772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835600" y="28098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5757840" y="3629160"/>
            <a:ext cx="411120" cy="419040"/>
            <a:chOff x="5757840" y="3629160"/>
            <a:chExt cx="411120" cy="419040"/>
          </a:xfrm>
        </p:grpSpPr>
        <p:sp>
          <p:nvSpPr>
            <p:cNvPr id="1442" name=""/>
            <p:cNvSpPr/>
            <p:nvPr/>
          </p:nvSpPr>
          <p:spPr>
            <a:xfrm>
              <a:off x="5757840" y="363708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835600" y="362916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4" name=""/>
          <p:cNvSpPr/>
          <p:nvPr/>
        </p:nvSpPr>
        <p:spPr>
          <a:xfrm>
            <a:off x="7142040" y="4200480"/>
            <a:ext cx="101880" cy="103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142040" y="2562120"/>
            <a:ext cx="101880" cy="1018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6168960" y="2716200"/>
            <a:ext cx="204840" cy="511200"/>
            <a:chOff x="6168960" y="2716200"/>
            <a:chExt cx="204840" cy="511200"/>
          </a:xfrm>
        </p:grpSpPr>
        <p:sp>
          <p:nvSpPr>
            <p:cNvPr id="1447" name=""/>
            <p:cNvSpPr/>
            <p:nvPr/>
          </p:nvSpPr>
          <p:spPr>
            <a:xfrm flipV="1">
              <a:off x="6270480" y="2716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6168960" y="2716200"/>
              <a:ext cx="1015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70480" y="271620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6168960" y="3535200"/>
            <a:ext cx="204840" cy="511200"/>
            <a:chOff x="6168960" y="3535200"/>
            <a:chExt cx="204840" cy="511200"/>
          </a:xfrm>
        </p:grpSpPr>
        <p:sp>
          <p:nvSpPr>
            <p:cNvPr id="1451" name=""/>
            <p:cNvSpPr/>
            <p:nvPr/>
          </p:nvSpPr>
          <p:spPr>
            <a:xfrm flipV="1">
              <a:off x="6270480" y="3535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6168960" y="3535200"/>
              <a:ext cx="1015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70480" y="35352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7259040" y="22496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187760" y="438156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1353960" y="2562120"/>
            <a:ext cx="2613240" cy="1741680"/>
            <a:chOff x="1353960" y="2562120"/>
            <a:chExt cx="2613240" cy="1741680"/>
          </a:xfrm>
        </p:grpSpPr>
        <p:sp>
          <p:nvSpPr>
            <p:cNvPr id="1457" name=""/>
            <p:cNvSpPr/>
            <p:nvPr/>
          </p:nvSpPr>
          <p:spPr>
            <a:xfrm flipH="1">
              <a:off x="2633400" y="3432240"/>
              <a:ext cx="13316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965400" y="3330720"/>
              <a:ext cx="1800" cy="204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583000" y="3381480"/>
              <a:ext cx="102960" cy="101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2633760" y="2612520"/>
              <a:ext cx="1440" cy="163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1404720" y="425124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1404720" y="261288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3960" y="4200480"/>
              <a:ext cx="101880" cy="103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353960" y="2562120"/>
              <a:ext cx="101880" cy="101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5" name=""/>
          <p:cNvSpPr/>
          <p:nvPr/>
        </p:nvSpPr>
        <p:spPr>
          <a:xfrm>
            <a:off x="3094200" y="3328920"/>
            <a:ext cx="51408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762200" y="250992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762200" y="414828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907920" y="2532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907920" y="4170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359600" y="4051440"/>
            <a:ext cx="11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6415200" y="2732040"/>
                <a:ext cx="1162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461280" y="3502080"/>
                <a:ext cx="1161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3" name=""/>
          <p:cNvSpPr/>
          <p:nvPr/>
        </p:nvSpPr>
        <p:spPr>
          <a:xfrm flipV="1">
            <a:off x="5962680" y="2892240"/>
            <a:ext cx="0" cy="24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5938920" y="37148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2709720" y="2711520"/>
                <a:ext cx="162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,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1766880" y="1909800"/>
                <a:ext cx="598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1676520" y="3632040"/>
                <a:ext cx="625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0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8360" y="2548080"/>
            <a:ext cx="1440" cy="19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5720" y="437832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360" y="3235320"/>
            <a:ext cx="2590560" cy="114300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0"/>
                </a:moveTo>
                <a:lnTo>
                  <a:pt x="1123" y="0"/>
                </a:lnTo>
                <a:lnTo>
                  <a:pt x="1327" y="119"/>
                </a:lnTo>
                <a:lnTo>
                  <a:pt x="1479" y="299"/>
                </a:lnTo>
                <a:lnTo>
                  <a:pt x="1582" y="480"/>
                </a:lnTo>
                <a:lnTo>
                  <a:pt x="1632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62040" y="2548080"/>
            <a:ext cx="7632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360" y="2548080"/>
            <a:ext cx="759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786120" y="43020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786120" y="437832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5560" y="2268360"/>
            <a:ext cx="1490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440" y="2411280"/>
            <a:ext cx="3348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8880" y="243216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3440" y="3097080"/>
            <a:ext cx="171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5720" y="3219480"/>
            <a:ext cx="1620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5760" y="3387600"/>
            <a:ext cx="1440" cy="9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18200" y="2519280"/>
            <a:ext cx="1440" cy="19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65560" y="434988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9840" y="3435480"/>
            <a:ext cx="2211120" cy="876240"/>
          </a:xfrm>
          <a:custGeom>
            <a:avLst/>
            <a:gdLst/>
            <a:ahLst/>
            <a:rect l="l" t="t" r="r" b="b"/>
            <a:pathLst>
              <a:path w="1393" h="552">
                <a:moveTo>
                  <a:pt x="0" y="0"/>
                </a:moveTo>
                <a:lnTo>
                  <a:pt x="653" y="4"/>
                </a:lnTo>
                <a:lnTo>
                  <a:pt x="785" y="24"/>
                </a:lnTo>
                <a:lnTo>
                  <a:pt x="861" y="48"/>
                </a:lnTo>
                <a:lnTo>
                  <a:pt x="937" y="88"/>
                </a:lnTo>
                <a:lnTo>
                  <a:pt x="981" y="136"/>
                </a:lnTo>
                <a:lnTo>
                  <a:pt x="1049" y="220"/>
                </a:lnTo>
                <a:lnTo>
                  <a:pt x="1101" y="328"/>
                </a:lnTo>
                <a:lnTo>
                  <a:pt x="1181" y="448"/>
                </a:lnTo>
                <a:lnTo>
                  <a:pt x="1273" y="524"/>
                </a:lnTo>
                <a:lnTo>
                  <a:pt x="1393" y="5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141880" y="25192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18200" y="25192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8265960" y="427356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265960" y="434988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13280" y="2382840"/>
            <a:ext cx="335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8880" y="238608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43466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45400" y="3664080"/>
            <a:ext cx="144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42280" y="41180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3440160"/>
            <a:ext cx="1149480" cy="912600"/>
          </a:xfrm>
          <a:custGeom>
            <a:avLst/>
            <a:gdLst/>
            <a:ahLst/>
            <a:rect l="l" t="t" r="r" b="b"/>
            <a:pathLst>
              <a:path w="724" h="575">
                <a:moveTo>
                  <a:pt x="724" y="0"/>
                </a:moveTo>
                <a:lnTo>
                  <a:pt x="508" y="1"/>
                </a:lnTo>
                <a:lnTo>
                  <a:pt x="396" y="49"/>
                </a:lnTo>
                <a:lnTo>
                  <a:pt x="337" y="91"/>
                </a:lnTo>
                <a:lnTo>
                  <a:pt x="260" y="165"/>
                </a:lnTo>
                <a:lnTo>
                  <a:pt x="216" y="235"/>
                </a:lnTo>
                <a:lnTo>
                  <a:pt x="156" y="395"/>
                </a:lnTo>
                <a:lnTo>
                  <a:pt x="100" y="513"/>
                </a:lnTo>
                <a:lnTo>
                  <a:pt x="60" y="549"/>
                </a:lnTo>
                <a:lnTo>
                  <a:pt x="0" y="5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18200" y="3664080"/>
            <a:ext cx="25336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4000" y="3511440"/>
            <a:ext cx="1440" cy="83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217840" y="3511440"/>
            <a:ext cx="685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27680" y="4346640"/>
            <a:ext cx="19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4960" y="263196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ądu zmienn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243828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radu stał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9460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2584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70440" y="44784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48280" y="440676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12880" y="45306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9120" y="4459320"/>
            <a:ext cx="78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pl-PL" sz="2800" spc="-1" strike="noStrike" baseline="-25000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6560" y="142704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u stałeg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y zmien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3080" y="55404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59200" y="55753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zmacniacza różnic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1736640" y="1387440"/>
                <a:ext cx="586764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≃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≃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0" name=""/>
          <p:cNvSpPr/>
          <p:nvPr/>
        </p:nvSpPr>
        <p:spPr>
          <a:xfrm>
            <a:off x="1275480" y="5773680"/>
            <a:ext cx="626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Dla układu ze źródłem prądowym: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E </a:t>
            </a:r>
            <a:r>
              <a:rPr b="0" lang="pl-PL" sz="2800" spc="-1" strike="noStrike">
                <a:solidFill>
                  <a:srgbClr val="008000"/>
                </a:solidFill>
                <a:latin typeface="Symbol"/>
                <a:ea typeface="Symbol"/>
              </a:rPr>
              <a:t></a:t>
            </a: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ź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2610000" y="1655640"/>
            <a:ext cx="5531040" cy="3249000"/>
            <a:chOff x="2610000" y="1655640"/>
            <a:chExt cx="5531040" cy="3249000"/>
          </a:xfrm>
        </p:grpSpPr>
        <p:sp>
          <p:nvSpPr>
            <p:cNvPr id="1483" name=""/>
            <p:cNvSpPr/>
            <p:nvPr/>
          </p:nvSpPr>
          <p:spPr>
            <a:xfrm>
              <a:off x="4757040" y="1655640"/>
              <a:ext cx="1800" cy="29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57040" y="2422800"/>
              <a:ext cx="158760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624"/>
                  </a:moveTo>
                  <a:lnTo>
                    <a:pt x="50" y="351"/>
                  </a:lnTo>
                  <a:lnTo>
                    <a:pt x="151" y="117"/>
                  </a:lnTo>
                  <a:lnTo>
                    <a:pt x="252" y="39"/>
                  </a:lnTo>
                  <a:lnTo>
                    <a:pt x="404" y="0"/>
                  </a:lnTo>
                  <a:lnTo>
                    <a:pt x="959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165840" y="3445560"/>
              <a:ext cx="158904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0"/>
                  </a:moveTo>
                  <a:lnTo>
                    <a:pt x="909" y="273"/>
                  </a:lnTo>
                  <a:lnTo>
                    <a:pt x="808" y="507"/>
                  </a:lnTo>
                  <a:lnTo>
                    <a:pt x="707" y="585"/>
                  </a:lnTo>
                  <a:lnTo>
                    <a:pt x="555" y="624"/>
                  </a:lnTo>
                  <a:lnTo>
                    <a:pt x="0" y="624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757040" y="3447000"/>
              <a:ext cx="1587600" cy="11098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164400" y="2422800"/>
              <a:ext cx="158868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467676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5704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610000" y="4557240"/>
              <a:ext cx="477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 flipV="1">
              <a:off x="7222680" y="4471200"/>
              <a:ext cx="1594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7222680" y="4557240"/>
              <a:ext cx="15948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280400" y="4387680"/>
              <a:ext cx="95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280400" y="2594160"/>
              <a:ext cx="95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073120" y="414684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073120" y="269820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80232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10884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677120" y="3447000"/>
              <a:ext cx="159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14844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4120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028200" y="466092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1088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4052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245760" y="466092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849360" y="404856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7" name=""/>
          <p:cNvSpPr/>
          <p:nvPr/>
        </p:nvSpPr>
        <p:spPr>
          <a:xfrm>
            <a:off x="4403520" y="1353960"/>
            <a:ext cx="93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262080" y="2335320"/>
                <a:ext cx="1995480" cy="21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 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3299760" y="1230480"/>
            <a:ext cx="4803120" cy="3920760"/>
            <a:chOff x="3299760" y="1230480"/>
            <a:chExt cx="4803120" cy="3920760"/>
          </a:xfrm>
        </p:grpSpPr>
        <p:sp>
          <p:nvSpPr>
            <p:cNvPr id="1511" name=""/>
            <p:cNvSpPr/>
            <p:nvPr/>
          </p:nvSpPr>
          <p:spPr>
            <a:xfrm>
              <a:off x="6811200" y="257904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794920" y="1535760"/>
              <a:ext cx="1800" cy="361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828240" y="3343680"/>
              <a:ext cx="412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696640" y="31309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696640" y="28116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696640" y="24926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696640" y="21736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696640" y="18547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696640" y="48322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696640" y="45133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696640" y="419436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696640" y="38754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696640" y="35564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4" name=""/>
            <p:cNvGrpSpPr/>
            <p:nvPr/>
          </p:nvGrpSpPr>
          <p:grpSpPr>
            <a:xfrm>
              <a:off x="4418280" y="3236760"/>
              <a:ext cx="2754360" cy="212040"/>
              <a:chOff x="4418280" y="3236760"/>
              <a:chExt cx="2754360" cy="212040"/>
            </a:xfrm>
          </p:grpSpPr>
          <p:sp>
            <p:nvSpPr>
              <p:cNvPr id="1525" name=""/>
              <p:cNvSpPr/>
              <p:nvPr/>
            </p:nvSpPr>
            <p:spPr>
              <a:xfrm flipV="1">
                <a:off x="559764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530280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500796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471312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441828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717084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687600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65811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62859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599112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5" name=""/>
            <p:cNvSpPr/>
            <p:nvPr/>
          </p:nvSpPr>
          <p:spPr>
            <a:xfrm>
              <a:off x="7170480" y="347220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827880" y="347220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695200" y="3427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826440" y="1961280"/>
              <a:ext cx="1964160" cy="138240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828240" y="281160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957" y="239"/>
                  </a:moveTo>
                  <a:lnTo>
                    <a:pt x="908" y="134"/>
                  </a:lnTo>
                  <a:lnTo>
                    <a:pt x="807" y="44"/>
                  </a:lnTo>
                  <a:lnTo>
                    <a:pt x="706" y="14"/>
                  </a:lnTo>
                  <a:lnTo>
                    <a:pt x="554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790960" y="3343680"/>
              <a:ext cx="1964160" cy="13816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90960" y="334368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0" y="0"/>
                  </a:moveTo>
                  <a:lnTo>
                    <a:pt x="49" y="105"/>
                  </a:lnTo>
                  <a:lnTo>
                    <a:pt x="150" y="195"/>
                  </a:lnTo>
                  <a:lnTo>
                    <a:pt x="251" y="225"/>
                  </a:lnTo>
                  <a:lnTo>
                    <a:pt x="403" y="239"/>
                  </a:lnTo>
                  <a:lnTo>
                    <a:pt x="957" y="239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299760" y="1230480"/>
              <a:ext cx="1426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&gt;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320720" y="461988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    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538520" y="4241160"/>
              <a:ext cx="15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398760" y="2176200"/>
              <a:ext cx="8348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5696280" y="1535760"/>
              <a:ext cx="982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794920" y="1535760"/>
              <a:ext cx="979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761240" y="3237120"/>
              <a:ext cx="19620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7760880" y="3343680"/>
              <a:ext cx="19620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187680" y="1385640"/>
              <a:ext cx="1014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498640" y="1664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500080" y="47484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353880" y="4051440"/>
                <a:ext cx="347364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520560" y="5900760"/>
                <a:ext cx="2318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"/>
          <p:cNvSpPr/>
          <p:nvPr/>
        </p:nvSpPr>
        <p:spPr>
          <a:xfrm>
            <a:off x="243000" y="452520"/>
            <a:ext cx="85978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Przy napięciach wejściowych różnicowych  większych od około 100mV  wzmacniacz różnicowy na tranzystorach bipolarnych zaczyna ograniczać poziom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la napięć wejściowych różnicowych powyżej 200mV wzmacniacz różnicowy przestaje wzmacnia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W celu zwiększenia impedancji wejściowych wzmacniacza różnicowego stosuje    si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y Darlingt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zystory polowe (układy tzw. BiFe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Tranzystory tzw. Super-Beta o wzmocnieniu prądowym n*1000 A/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3932280" y="3949560"/>
            <a:ext cx="624960" cy="833400"/>
            <a:chOff x="3932280" y="3949560"/>
            <a:chExt cx="624960" cy="833400"/>
          </a:xfrm>
        </p:grpSpPr>
        <p:grpSp>
          <p:nvGrpSpPr>
            <p:cNvPr id="1557" name=""/>
            <p:cNvGrpSpPr/>
            <p:nvPr/>
          </p:nvGrpSpPr>
          <p:grpSpPr>
            <a:xfrm>
              <a:off x="4396680" y="4286880"/>
              <a:ext cx="160560" cy="322200"/>
              <a:chOff x="4396680" y="4286880"/>
              <a:chExt cx="160560" cy="322200"/>
            </a:xfrm>
          </p:grpSpPr>
          <p:sp>
            <p:nvSpPr>
              <p:cNvPr id="1558" name=""/>
              <p:cNvSpPr/>
              <p:nvPr/>
            </p:nvSpPr>
            <p:spPr>
              <a:xfrm>
                <a:off x="4396680" y="428724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396680" y="444816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4396680" y="428688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110840" y="4150440"/>
              <a:ext cx="160560" cy="322200"/>
              <a:chOff x="4110840" y="4150440"/>
              <a:chExt cx="160560" cy="322200"/>
            </a:xfrm>
          </p:grpSpPr>
          <p:sp>
            <p:nvSpPr>
              <p:cNvPr id="1562" name=""/>
              <p:cNvSpPr/>
              <p:nvPr/>
            </p:nvSpPr>
            <p:spPr>
              <a:xfrm>
                <a:off x="4110840" y="415080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110840" y="431172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4110840" y="415044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5" name=""/>
            <p:cNvSpPr/>
            <p:nvPr/>
          </p:nvSpPr>
          <p:spPr>
            <a:xfrm>
              <a:off x="4267080" y="445932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267080" y="414864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4539600" y="394956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3932280" y="431100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539600" y="4596120"/>
              <a:ext cx="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"/>
          <p:cNvSpPr/>
          <p:nvPr/>
        </p:nvSpPr>
        <p:spPr>
          <a:xfrm>
            <a:off x="7445520" y="33163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5892840" y="4779720"/>
            <a:ext cx="624960" cy="707760"/>
            <a:chOff x="5892840" y="4779720"/>
            <a:chExt cx="624960" cy="707760"/>
          </a:xfrm>
        </p:grpSpPr>
        <p:grpSp>
          <p:nvGrpSpPr>
            <p:cNvPr id="1572" name=""/>
            <p:cNvGrpSpPr/>
            <p:nvPr/>
          </p:nvGrpSpPr>
          <p:grpSpPr>
            <a:xfrm>
              <a:off x="6370560" y="5054400"/>
              <a:ext cx="131040" cy="262080"/>
              <a:chOff x="6370560" y="5054400"/>
              <a:chExt cx="131040" cy="262080"/>
            </a:xfrm>
          </p:grpSpPr>
          <p:sp>
            <p:nvSpPr>
              <p:cNvPr id="1573" name=""/>
              <p:cNvSpPr/>
              <p:nvPr/>
            </p:nvSpPr>
            <p:spPr>
              <a:xfrm>
                <a:off x="6370560" y="5054400"/>
                <a:ext cx="0" cy="26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370560" y="518544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6370560" y="505440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6" name=""/>
            <p:cNvSpPr/>
            <p:nvPr/>
          </p:nvSpPr>
          <p:spPr>
            <a:xfrm>
              <a:off x="6074640" y="5002200"/>
              <a:ext cx="0" cy="25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892840" y="5134320"/>
              <a:ext cx="18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074640" y="5083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081120" y="5180760"/>
              <a:ext cx="2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6215760" y="4880880"/>
              <a:ext cx="0" cy="2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6499800" y="4779720"/>
              <a:ext cx="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226920" y="48909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499800" y="531648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475320" y="4867560"/>
              <a:ext cx="42480" cy="42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1640" y="2287440"/>
            <a:ext cx="906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aktycznie wszystkie stopnie wejściowe wzmacniaczy oper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pnie wejściowe wzmacniaczy mo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zmacniacze o liniowo regulowanym wzmocnien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układu o strukturz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62000" y="1582560"/>
            <a:ext cx="884088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Jako wzmacniacz sygnałów różnicowych, z jednoczesny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łumieniem sygnałów wspól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Jako tzw. wzmacniacz-ogranicznik (eliminacja zakłóceń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Klucz prądow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Regulator poziomu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Układ mnożący - modulator amplitudy, detektor fazy,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Kaskoda (o regulowanym wzmocnieni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1120" y="3929040"/>
            <a:ext cx="7675560" cy="2311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napięc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poziomu napięcia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prąd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wartości prądu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87560" y="1012680"/>
            <a:ext cx="7092720" cy="257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idealnym wzmacniaczu prądu sta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f(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=const. jeśli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zeczywistym wzmacniaczu prądu stałego napięcie (prą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 wyjściu zmienia się, mimo że sygnał wejściowy jest stał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Zjawisko to nazywamy dryftem wzmacniacz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czny 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8600" y="4038480"/>
                <a:ext cx="1623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162920" y="3962520"/>
                <a:ext cx="1508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5334120"/>
                <a:ext cx="16747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238880" y="5105520"/>
                <a:ext cx="150660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2133720" y="1066680"/>
            <a:ext cx="4800600" cy="3771360"/>
            <a:chOff x="2133720" y="1066680"/>
            <a:chExt cx="4800600" cy="3771360"/>
          </a:xfrm>
        </p:grpSpPr>
        <p:sp>
          <p:nvSpPr>
            <p:cNvPr id="95" name=""/>
            <p:cNvSpPr/>
            <p:nvPr/>
          </p:nvSpPr>
          <p:spPr>
            <a:xfrm>
              <a:off x="6567480" y="4378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426888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344680" y="1239840"/>
              <a:ext cx="0" cy="32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89120" y="1066680"/>
              <a:ext cx="124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81160" y="2085840"/>
              <a:ext cx="2963880" cy="1055880"/>
            </a:xfrm>
            <a:custGeom>
              <a:avLst/>
              <a:gdLst/>
              <a:ahLst/>
              <a:rect l="l" t="t" r="r" b="b"/>
              <a:pathLst>
                <a:path w="2016" h="720">
                  <a:moveTo>
                    <a:pt x="0" y="720"/>
                  </a:moveTo>
                  <a:cubicBezTo>
                    <a:pt x="264" y="580"/>
                    <a:pt x="528" y="440"/>
                    <a:pt x="768" y="336"/>
                  </a:cubicBezTo>
                  <a:cubicBezTo>
                    <a:pt x="1008" y="232"/>
                    <a:pt x="1232" y="152"/>
                    <a:pt x="1440" y="96"/>
                  </a:cubicBezTo>
                  <a:cubicBezTo>
                    <a:pt x="1648" y="40"/>
                    <a:pt x="1920" y="16"/>
                    <a:pt x="20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98520" y="1371600"/>
              <a:ext cx="156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on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1280" y="28195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257800" y="2209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780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286000" y="2819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361960" y="22096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wzmocni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68600" y="1631520"/>
            <a:ext cx="1440" cy="396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93920" y="5322960"/>
            <a:ext cx="45115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30360" y="1631880"/>
            <a:ext cx="1382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68600" y="1631880"/>
            <a:ext cx="1364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632560" y="51861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2560" y="53229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2981160"/>
            <a:ext cx="3708360" cy="430200"/>
          </a:xfrm>
          <a:custGeom>
            <a:avLst/>
            <a:gdLst/>
            <a:ahLst/>
            <a:rect l="l" t="t" r="r" b="b"/>
            <a:pathLst>
              <a:path w="2336" h="271">
                <a:moveTo>
                  <a:pt x="3" y="169"/>
                </a:moveTo>
                <a:lnTo>
                  <a:pt x="0" y="160"/>
                </a:lnTo>
                <a:lnTo>
                  <a:pt x="9" y="160"/>
                </a:lnTo>
                <a:lnTo>
                  <a:pt x="20" y="160"/>
                </a:lnTo>
                <a:lnTo>
                  <a:pt x="30" y="158"/>
                </a:lnTo>
                <a:lnTo>
                  <a:pt x="30" y="157"/>
                </a:lnTo>
                <a:lnTo>
                  <a:pt x="30" y="153"/>
                </a:lnTo>
                <a:lnTo>
                  <a:pt x="39" y="153"/>
                </a:lnTo>
                <a:lnTo>
                  <a:pt x="39" y="151"/>
                </a:lnTo>
                <a:lnTo>
                  <a:pt x="50" y="151"/>
                </a:lnTo>
                <a:lnTo>
                  <a:pt x="50" y="146"/>
                </a:lnTo>
                <a:lnTo>
                  <a:pt x="61" y="146"/>
                </a:lnTo>
                <a:lnTo>
                  <a:pt x="61" y="144"/>
                </a:lnTo>
                <a:lnTo>
                  <a:pt x="61" y="142"/>
                </a:lnTo>
                <a:lnTo>
                  <a:pt x="70" y="137"/>
                </a:lnTo>
                <a:lnTo>
                  <a:pt x="81" y="135"/>
                </a:lnTo>
                <a:lnTo>
                  <a:pt x="91" y="135"/>
                </a:lnTo>
                <a:lnTo>
                  <a:pt x="102" y="130"/>
                </a:lnTo>
                <a:lnTo>
                  <a:pt x="111" y="126"/>
                </a:lnTo>
                <a:lnTo>
                  <a:pt x="122" y="126"/>
                </a:lnTo>
                <a:lnTo>
                  <a:pt x="133" y="122"/>
                </a:lnTo>
                <a:lnTo>
                  <a:pt x="142" y="122"/>
                </a:lnTo>
                <a:lnTo>
                  <a:pt x="142" y="119"/>
                </a:lnTo>
                <a:lnTo>
                  <a:pt x="142" y="117"/>
                </a:lnTo>
                <a:lnTo>
                  <a:pt x="152" y="117"/>
                </a:lnTo>
                <a:lnTo>
                  <a:pt x="152" y="113"/>
                </a:lnTo>
                <a:lnTo>
                  <a:pt x="163" y="112"/>
                </a:lnTo>
                <a:lnTo>
                  <a:pt x="163" y="110"/>
                </a:lnTo>
                <a:lnTo>
                  <a:pt x="163" y="106"/>
                </a:lnTo>
                <a:lnTo>
                  <a:pt x="172" y="106"/>
                </a:lnTo>
                <a:lnTo>
                  <a:pt x="172" y="105"/>
                </a:lnTo>
                <a:lnTo>
                  <a:pt x="172" y="99"/>
                </a:lnTo>
                <a:lnTo>
                  <a:pt x="183" y="97"/>
                </a:lnTo>
                <a:lnTo>
                  <a:pt x="183" y="96"/>
                </a:lnTo>
                <a:lnTo>
                  <a:pt x="183" y="94"/>
                </a:lnTo>
                <a:lnTo>
                  <a:pt x="183" y="90"/>
                </a:lnTo>
                <a:lnTo>
                  <a:pt x="183" y="88"/>
                </a:lnTo>
                <a:lnTo>
                  <a:pt x="183" y="87"/>
                </a:lnTo>
                <a:lnTo>
                  <a:pt x="183" y="83"/>
                </a:lnTo>
                <a:lnTo>
                  <a:pt x="183" y="81"/>
                </a:lnTo>
                <a:lnTo>
                  <a:pt x="183" y="79"/>
                </a:lnTo>
                <a:lnTo>
                  <a:pt x="183" y="76"/>
                </a:lnTo>
                <a:lnTo>
                  <a:pt x="183" y="74"/>
                </a:lnTo>
                <a:lnTo>
                  <a:pt x="183" y="72"/>
                </a:lnTo>
                <a:lnTo>
                  <a:pt x="194" y="72"/>
                </a:lnTo>
                <a:lnTo>
                  <a:pt x="194" y="70"/>
                </a:lnTo>
                <a:lnTo>
                  <a:pt x="204" y="70"/>
                </a:lnTo>
                <a:lnTo>
                  <a:pt x="204" y="67"/>
                </a:lnTo>
                <a:lnTo>
                  <a:pt x="213" y="67"/>
                </a:lnTo>
                <a:lnTo>
                  <a:pt x="213" y="65"/>
                </a:lnTo>
                <a:lnTo>
                  <a:pt x="213" y="63"/>
                </a:lnTo>
                <a:lnTo>
                  <a:pt x="224" y="63"/>
                </a:lnTo>
                <a:lnTo>
                  <a:pt x="224" y="60"/>
                </a:lnTo>
                <a:lnTo>
                  <a:pt x="235" y="60"/>
                </a:lnTo>
                <a:lnTo>
                  <a:pt x="244" y="58"/>
                </a:lnTo>
                <a:lnTo>
                  <a:pt x="255" y="56"/>
                </a:lnTo>
                <a:lnTo>
                  <a:pt x="265" y="51"/>
                </a:lnTo>
                <a:lnTo>
                  <a:pt x="274" y="51"/>
                </a:lnTo>
                <a:lnTo>
                  <a:pt x="296" y="49"/>
                </a:lnTo>
                <a:lnTo>
                  <a:pt x="307" y="47"/>
                </a:lnTo>
                <a:lnTo>
                  <a:pt x="326" y="44"/>
                </a:lnTo>
                <a:lnTo>
                  <a:pt x="346" y="42"/>
                </a:lnTo>
                <a:lnTo>
                  <a:pt x="357" y="40"/>
                </a:lnTo>
                <a:lnTo>
                  <a:pt x="377" y="36"/>
                </a:lnTo>
                <a:lnTo>
                  <a:pt x="387" y="35"/>
                </a:lnTo>
                <a:lnTo>
                  <a:pt x="409" y="33"/>
                </a:lnTo>
                <a:lnTo>
                  <a:pt x="418" y="33"/>
                </a:lnTo>
                <a:lnTo>
                  <a:pt x="429" y="29"/>
                </a:lnTo>
                <a:lnTo>
                  <a:pt x="439" y="29"/>
                </a:lnTo>
                <a:lnTo>
                  <a:pt x="448" y="26"/>
                </a:lnTo>
                <a:lnTo>
                  <a:pt x="470" y="24"/>
                </a:lnTo>
                <a:lnTo>
                  <a:pt x="479" y="24"/>
                </a:lnTo>
                <a:lnTo>
                  <a:pt x="490" y="20"/>
                </a:lnTo>
                <a:lnTo>
                  <a:pt x="511" y="18"/>
                </a:lnTo>
                <a:lnTo>
                  <a:pt x="511" y="17"/>
                </a:lnTo>
                <a:lnTo>
                  <a:pt x="520" y="13"/>
                </a:lnTo>
                <a:lnTo>
                  <a:pt x="542" y="13"/>
                </a:lnTo>
                <a:lnTo>
                  <a:pt x="551" y="13"/>
                </a:lnTo>
                <a:lnTo>
                  <a:pt x="561" y="13"/>
                </a:lnTo>
                <a:lnTo>
                  <a:pt x="561" y="11"/>
                </a:lnTo>
                <a:lnTo>
                  <a:pt x="561" y="9"/>
                </a:lnTo>
                <a:lnTo>
                  <a:pt x="561" y="6"/>
                </a:lnTo>
                <a:lnTo>
                  <a:pt x="592" y="6"/>
                </a:lnTo>
                <a:lnTo>
                  <a:pt x="644" y="2"/>
                </a:lnTo>
                <a:lnTo>
                  <a:pt x="644" y="0"/>
                </a:lnTo>
                <a:lnTo>
                  <a:pt x="644" y="2"/>
                </a:lnTo>
                <a:lnTo>
                  <a:pt x="653" y="4"/>
                </a:lnTo>
                <a:lnTo>
                  <a:pt x="674" y="4"/>
                </a:lnTo>
                <a:lnTo>
                  <a:pt x="694" y="4"/>
                </a:lnTo>
                <a:lnTo>
                  <a:pt x="705" y="4"/>
                </a:lnTo>
                <a:lnTo>
                  <a:pt x="716" y="4"/>
                </a:lnTo>
                <a:lnTo>
                  <a:pt x="735" y="4"/>
                </a:lnTo>
                <a:lnTo>
                  <a:pt x="755" y="4"/>
                </a:lnTo>
                <a:lnTo>
                  <a:pt x="766" y="4"/>
                </a:lnTo>
                <a:lnTo>
                  <a:pt x="777" y="4"/>
                </a:lnTo>
                <a:lnTo>
                  <a:pt x="786" y="4"/>
                </a:lnTo>
                <a:lnTo>
                  <a:pt x="796" y="4"/>
                </a:lnTo>
                <a:lnTo>
                  <a:pt x="807" y="4"/>
                </a:lnTo>
                <a:lnTo>
                  <a:pt x="818" y="4"/>
                </a:lnTo>
                <a:lnTo>
                  <a:pt x="838" y="4"/>
                </a:lnTo>
                <a:lnTo>
                  <a:pt x="848" y="4"/>
                </a:lnTo>
                <a:lnTo>
                  <a:pt x="868" y="4"/>
                </a:lnTo>
                <a:lnTo>
                  <a:pt x="879" y="4"/>
                </a:lnTo>
                <a:lnTo>
                  <a:pt x="890" y="4"/>
                </a:lnTo>
                <a:lnTo>
                  <a:pt x="909" y="4"/>
                </a:lnTo>
                <a:lnTo>
                  <a:pt x="920" y="4"/>
                </a:lnTo>
                <a:lnTo>
                  <a:pt x="929" y="4"/>
                </a:lnTo>
                <a:lnTo>
                  <a:pt x="951" y="4"/>
                </a:lnTo>
                <a:lnTo>
                  <a:pt x="960" y="4"/>
                </a:lnTo>
                <a:lnTo>
                  <a:pt x="970" y="4"/>
                </a:lnTo>
                <a:lnTo>
                  <a:pt x="981" y="4"/>
                </a:lnTo>
                <a:lnTo>
                  <a:pt x="1001" y="4"/>
                </a:lnTo>
                <a:lnTo>
                  <a:pt x="1012" y="4"/>
                </a:lnTo>
                <a:lnTo>
                  <a:pt x="1031" y="4"/>
                </a:lnTo>
                <a:lnTo>
                  <a:pt x="1042" y="6"/>
                </a:lnTo>
                <a:lnTo>
                  <a:pt x="1053" y="6"/>
                </a:lnTo>
                <a:lnTo>
                  <a:pt x="1073" y="9"/>
                </a:lnTo>
                <a:lnTo>
                  <a:pt x="1083" y="11"/>
                </a:lnTo>
                <a:lnTo>
                  <a:pt x="1103" y="11"/>
                </a:lnTo>
                <a:lnTo>
                  <a:pt x="1114" y="13"/>
                </a:lnTo>
                <a:lnTo>
                  <a:pt x="1125" y="13"/>
                </a:lnTo>
                <a:lnTo>
                  <a:pt x="1144" y="17"/>
                </a:lnTo>
                <a:lnTo>
                  <a:pt x="1164" y="20"/>
                </a:lnTo>
                <a:lnTo>
                  <a:pt x="1196" y="24"/>
                </a:lnTo>
                <a:lnTo>
                  <a:pt x="1205" y="26"/>
                </a:lnTo>
                <a:lnTo>
                  <a:pt x="1227" y="27"/>
                </a:lnTo>
                <a:lnTo>
                  <a:pt x="1247" y="33"/>
                </a:lnTo>
                <a:lnTo>
                  <a:pt x="1266" y="35"/>
                </a:lnTo>
                <a:lnTo>
                  <a:pt x="1288" y="36"/>
                </a:lnTo>
                <a:lnTo>
                  <a:pt x="1318" y="40"/>
                </a:lnTo>
                <a:lnTo>
                  <a:pt x="1329" y="42"/>
                </a:lnTo>
                <a:lnTo>
                  <a:pt x="1349" y="44"/>
                </a:lnTo>
                <a:lnTo>
                  <a:pt x="1369" y="47"/>
                </a:lnTo>
                <a:lnTo>
                  <a:pt x="1379" y="49"/>
                </a:lnTo>
                <a:lnTo>
                  <a:pt x="1410" y="52"/>
                </a:lnTo>
                <a:lnTo>
                  <a:pt x="1410" y="56"/>
                </a:lnTo>
                <a:lnTo>
                  <a:pt x="1421" y="58"/>
                </a:lnTo>
                <a:lnTo>
                  <a:pt x="1431" y="58"/>
                </a:lnTo>
                <a:lnTo>
                  <a:pt x="1451" y="63"/>
                </a:lnTo>
                <a:lnTo>
                  <a:pt x="1462" y="65"/>
                </a:lnTo>
                <a:lnTo>
                  <a:pt x="1482" y="67"/>
                </a:lnTo>
                <a:lnTo>
                  <a:pt x="1503" y="70"/>
                </a:lnTo>
                <a:lnTo>
                  <a:pt x="1534" y="76"/>
                </a:lnTo>
                <a:lnTo>
                  <a:pt x="1543" y="79"/>
                </a:lnTo>
                <a:lnTo>
                  <a:pt x="1553" y="81"/>
                </a:lnTo>
                <a:lnTo>
                  <a:pt x="1564" y="83"/>
                </a:lnTo>
                <a:lnTo>
                  <a:pt x="1573" y="87"/>
                </a:lnTo>
                <a:lnTo>
                  <a:pt x="1573" y="88"/>
                </a:lnTo>
                <a:lnTo>
                  <a:pt x="1573" y="90"/>
                </a:lnTo>
                <a:lnTo>
                  <a:pt x="1584" y="94"/>
                </a:lnTo>
                <a:lnTo>
                  <a:pt x="1595" y="96"/>
                </a:lnTo>
                <a:lnTo>
                  <a:pt x="1605" y="97"/>
                </a:lnTo>
                <a:lnTo>
                  <a:pt x="1614" y="103"/>
                </a:lnTo>
                <a:lnTo>
                  <a:pt x="1614" y="105"/>
                </a:lnTo>
                <a:lnTo>
                  <a:pt x="1625" y="112"/>
                </a:lnTo>
                <a:lnTo>
                  <a:pt x="1636" y="113"/>
                </a:lnTo>
                <a:lnTo>
                  <a:pt x="1656" y="117"/>
                </a:lnTo>
                <a:lnTo>
                  <a:pt x="1666" y="122"/>
                </a:lnTo>
                <a:lnTo>
                  <a:pt x="1686" y="126"/>
                </a:lnTo>
                <a:lnTo>
                  <a:pt x="1708" y="130"/>
                </a:lnTo>
                <a:lnTo>
                  <a:pt x="1727" y="135"/>
                </a:lnTo>
                <a:lnTo>
                  <a:pt x="1738" y="140"/>
                </a:lnTo>
                <a:lnTo>
                  <a:pt x="1758" y="142"/>
                </a:lnTo>
                <a:lnTo>
                  <a:pt x="1779" y="144"/>
                </a:lnTo>
                <a:lnTo>
                  <a:pt x="1788" y="149"/>
                </a:lnTo>
                <a:lnTo>
                  <a:pt x="1799" y="151"/>
                </a:lnTo>
                <a:lnTo>
                  <a:pt x="1819" y="153"/>
                </a:lnTo>
                <a:lnTo>
                  <a:pt x="1830" y="160"/>
                </a:lnTo>
                <a:lnTo>
                  <a:pt x="1849" y="167"/>
                </a:lnTo>
                <a:lnTo>
                  <a:pt x="1871" y="169"/>
                </a:lnTo>
                <a:lnTo>
                  <a:pt x="1901" y="176"/>
                </a:lnTo>
                <a:lnTo>
                  <a:pt x="1932" y="182"/>
                </a:lnTo>
                <a:lnTo>
                  <a:pt x="1943" y="187"/>
                </a:lnTo>
                <a:lnTo>
                  <a:pt x="1962" y="189"/>
                </a:lnTo>
                <a:lnTo>
                  <a:pt x="1973" y="191"/>
                </a:lnTo>
                <a:lnTo>
                  <a:pt x="1984" y="196"/>
                </a:lnTo>
                <a:lnTo>
                  <a:pt x="2004" y="198"/>
                </a:lnTo>
                <a:lnTo>
                  <a:pt x="2023" y="200"/>
                </a:lnTo>
                <a:lnTo>
                  <a:pt x="2045" y="207"/>
                </a:lnTo>
                <a:lnTo>
                  <a:pt x="2065" y="210"/>
                </a:lnTo>
                <a:lnTo>
                  <a:pt x="2086" y="212"/>
                </a:lnTo>
                <a:lnTo>
                  <a:pt x="2106" y="216"/>
                </a:lnTo>
                <a:lnTo>
                  <a:pt x="2126" y="216"/>
                </a:lnTo>
                <a:lnTo>
                  <a:pt x="2147" y="221"/>
                </a:lnTo>
                <a:lnTo>
                  <a:pt x="2147" y="223"/>
                </a:lnTo>
                <a:lnTo>
                  <a:pt x="2156" y="226"/>
                </a:lnTo>
                <a:lnTo>
                  <a:pt x="2167" y="226"/>
                </a:lnTo>
                <a:lnTo>
                  <a:pt x="2178" y="228"/>
                </a:lnTo>
                <a:lnTo>
                  <a:pt x="2197" y="228"/>
                </a:lnTo>
                <a:lnTo>
                  <a:pt x="2228" y="228"/>
                </a:lnTo>
                <a:lnTo>
                  <a:pt x="2239" y="228"/>
                </a:lnTo>
                <a:lnTo>
                  <a:pt x="2249" y="228"/>
                </a:lnTo>
                <a:lnTo>
                  <a:pt x="2258" y="228"/>
                </a:lnTo>
                <a:lnTo>
                  <a:pt x="2280" y="226"/>
                </a:lnTo>
                <a:lnTo>
                  <a:pt x="2300" y="216"/>
                </a:lnTo>
                <a:lnTo>
                  <a:pt x="2310" y="210"/>
                </a:lnTo>
                <a:lnTo>
                  <a:pt x="2310" y="212"/>
                </a:lnTo>
                <a:lnTo>
                  <a:pt x="2310" y="216"/>
                </a:lnTo>
                <a:lnTo>
                  <a:pt x="2310" y="219"/>
                </a:lnTo>
                <a:lnTo>
                  <a:pt x="2336" y="271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2998800"/>
            <a:ext cx="1800" cy="232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38520" y="3271680"/>
            <a:ext cx="1800" cy="205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2998800"/>
            <a:ext cx="287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38520" y="3271680"/>
            <a:ext cx="19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8680" y="2725560"/>
            <a:ext cx="1440" cy="82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041880" y="3271680"/>
            <a:ext cx="13680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8680" y="3271680"/>
            <a:ext cx="136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041880" y="286200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178680" y="286200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71960" y="4229280"/>
            <a:ext cx="163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538520" y="4092480"/>
            <a:ext cx="13680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38520" y="422928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444480" y="4092480"/>
            <a:ext cx="13644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444480" y="422928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06880" y="5487840"/>
            <a:ext cx="1506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65520" y="152388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28840" y="38480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72760" y="3027240"/>
            <a:ext cx="3038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37680" y="38163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71520" y="29955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51480" y="5510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89520" y="5554800"/>
            <a:ext cx="74880" cy="668160"/>
          </a:xfrm>
          <a:custGeom>
            <a:avLst/>
            <a:gdLst>
              <a:gd name="textAreaLeft" fmla="*/ 47880 w 74880"/>
              <a:gd name="textAreaRight" fmla="*/ 75240 w 74880"/>
              <a:gd name="textAreaTop" fmla="*/ 17280 h 668160"/>
              <a:gd name="textAreaBottom" fmla="*/ 650880 h 66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487640" y="5545080"/>
            <a:ext cx="74520" cy="668520"/>
          </a:xfrm>
          <a:custGeom>
            <a:avLst/>
            <a:gdLst>
              <a:gd name="textAreaLeft" fmla="*/ 47160 w 74520"/>
              <a:gd name="textAreaRight" fmla="*/ 74520 w 74520"/>
              <a:gd name="textAreaTop" fmla="*/ 17280 h 668520"/>
              <a:gd name="textAreaBottom" fmla="*/ 651240 h 6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648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498760"/>
            <a:ext cx="23004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43240" y="2043000"/>
            <a:ext cx="1141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30440" y="236376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23240" y="2592360"/>
            <a:ext cx="7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zeczywi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14280" y="22716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114280" y="288144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199880" y="2271600"/>
            <a:ext cx="685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0024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0240" y="288144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5760" y="250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04800" y="219564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81160" y="24512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71800" y="2233440"/>
            <a:ext cx="7596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71800" y="2843280"/>
            <a:ext cx="75960" cy="759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86240" y="288144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86240" y="22716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712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24242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18320" y="2516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95880" y="1754280"/>
            <a:ext cx="80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  = f(Rg,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93440" y="18748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3720" y="19828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2160" y="25160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88120" y="2041560"/>
            <a:ext cx="114156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39320" y="236232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38240" y="25909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59160" y="22701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059160" y="287964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86480" y="2270160"/>
            <a:ext cx="137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6480" y="2879640"/>
            <a:ext cx="1373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62440" y="2193840"/>
            <a:ext cx="30636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0080" y="24494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21360" y="223200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21360" y="2841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31120" y="287964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31120" y="227016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12000" y="227016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36040" y="242244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63560" y="2514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61360" y="19810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9840" y="251460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73720" y="2160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5952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945040" y="2470320"/>
            <a:ext cx="228600" cy="228600"/>
            <a:chOff x="5945040" y="2470320"/>
            <a:chExt cx="228600" cy="228600"/>
          </a:xfrm>
        </p:grpSpPr>
        <p:sp>
          <p:nvSpPr>
            <p:cNvPr id="184" name=""/>
            <p:cNvSpPr/>
            <p:nvPr/>
          </p:nvSpPr>
          <p:spPr>
            <a:xfrm>
              <a:off x="5945040" y="247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68800" y="2499120"/>
              <a:ext cx="181080" cy="17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373000" y="1905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50040" y="2025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54600" y="2558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78280" y="243828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01600" y="486108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87480" y="50896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01800" y="4632480"/>
            <a:ext cx="114156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53000" y="495288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51920" y="518148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472840" y="486108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472840" y="54705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01600" y="486108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01600" y="54705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7920" y="478476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15560" y="50403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44800" y="547056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44800" y="486108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26040" y="486108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49720" y="501336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77240" y="51055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76840" y="45720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53880" y="51055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874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86680" y="4495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637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446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43880" y="449568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   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09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35120" y="4327560"/>
            <a:ext cx="1066680" cy="228600"/>
          </a:xfrm>
          <a:custGeom>
            <a:avLst/>
            <a:gdLst/>
            <a:ahLst/>
            <a:rect l="l" t="t" r="r" b="b"/>
            <a:pathLst>
              <a:path w="672" h="144">
                <a:moveTo>
                  <a:pt x="0" y="144"/>
                </a:moveTo>
                <a:lnTo>
                  <a:pt x="0" y="96"/>
                </a:lnTo>
                <a:lnTo>
                  <a:pt x="48" y="48"/>
                </a:lnTo>
                <a:lnTo>
                  <a:pt x="288" y="48"/>
                </a:lnTo>
                <a:lnTo>
                  <a:pt x="336" y="0"/>
                </a:lnTo>
                <a:lnTo>
                  <a:pt x="384" y="48"/>
                </a:lnTo>
                <a:lnTo>
                  <a:pt x="624" y="48"/>
                </a:lnTo>
                <a:lnTo>
                  <a:pt x="672" y="96"/>
                </a:lnTo>
                <a:lnTo>
                  <a:pt x="67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97200" y="3851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410080" y="4495680"/>
                <a:ext cx="1665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606840" y="149688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05640" y="163656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59360" y="433872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92440" y="344808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-283592"/>
              <a:gd name="adj4" fmla="val 133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pięci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22440" y="93816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412398"/>
              <a:gd name="adj4" fmla="val 129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ąd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90560" y="1157040"/>
            <a:ext cx="7788240" cy="5037480"/>
            <a:chOff x="790560" y="1157040"/>
            <a:chExt cx="7788240" cy="5037480"/>
          </a:xfrm>
        </p:grpSpPr>
        <p:grpSp>
          <p:nvGrpSpPr>
            <p:cNvPr id="224" name=""/>
            <p:cNvGrpSpPr/>
            <p:nvPr/>
          </p:nvGrpSpPr>
          <p:grpSpPr>
            <a:xfrm>
              <a:off x="1668600" y="1911240"/>
              <a:ext cx="503280" cy="500040"/>
              <a:chOff x="1668600" y="1911240"/>
              <a:chExt cx="503280" cy="500040"/>
            </a:xfrm>
          </p:grpSpPr>
          <p:sp>
            <p:nvSpPr>
              <p:cNvPr id="225" name=""/>
              <p:cNvSpPr/>
              <p:nvPr/>
            </p:nvSpPr>
            <p:spPr>
              <a:xfrm>
                <a:off x="167004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85724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1857240" y="1932120"/>
                <a:ext cx="1620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724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68600" y="2160720"/>
                <a:ext cx="188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198288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92096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V="1">
              <a:off x="204624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21292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4624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1292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57240" y="2162160"/>
              <a:ext cx="754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57240" y="2162160"/>
              <a:ext cx="144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0560" y="2747880"/>
              <a:ext cx="334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73000" y="2832120"/>
              <a:ext cx="16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57240" y="2832120"/>
              <a:ext cx="144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57240" y="3502080"/>
              <a:ext cx="1674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360" y="2077920"/>
              <a:ext cx="33372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048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21292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213012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5208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532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7292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0112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513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0112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3792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8804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5788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8884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5904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2180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7624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2636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2180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7228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4212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2180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8288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1804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1804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218040" y="2161800"/>
              <a:ext cx="168120" cy="250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68600" y="216072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610320" y="1911240"/>
              <a:ext cx="501840" cy="500040"/>
              <a:chOff x="6610320" y="1911240"/>
              <a:chExt cx="501840" cy="500040"/>
            </a:xfrm>
          </p:grpSpPr>
          <p:sp>
            <p:nvSpPr>
              <p:cNvPr id="270" name=""/>
              <p:cNvSpPr/>
              <p:nvPr/>
            </p:nvSpPr>
            <p:spPr>
              <a:xfrm>
                <a:off x="661032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679752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6797520" y="1932120"/>
                <a:ext cx="1638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9752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10320" y="2160720"/>
                <a:ext cx="187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692316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686124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V="1">
              <a:off x="698652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15320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652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5320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57600" y="2162160"/>
              <a:ext cx="2178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57600" y="216216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90920" y="2747880"/>
              <a:ext cx="335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75160" y="2832120"/>
              <a:ext cx="166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57600" y="2832120"/>
              <a:ext cx="180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57600" y="3502080"/>
              <a:ext cx="259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6080" y="207792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7076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15320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07040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424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6560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1320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0148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531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0148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7820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2832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9816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912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9932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6208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1652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6664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6208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1256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8276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6208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2316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5832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832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08880" y="2160720"/>
              <a:ext cx="16992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11800" y="1994040"/>
              <a:ext cx="334800" cy="334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981760" y="2162160"/>
              <a:ext cx="1440" cy="133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815080" y="2664000"/>
              <a:ext cx="333360" cy="334800"/>
              <a:chOff x="5815080" y="2664000"/>
              <a:chExt cx="333360" cy="334800"/>
            </a:xfrm>
          </p:grpSpPr>
          <p:sp>
            <p:nvSpPr>
              <p:cNvPr id="316" name=""/>
              <p:cNvSpPr/>
              <p:nvPr/>
            </p:nvSpPr>
            <p:spPr>
              <a:xfrm>
                <a:off x="5815080" y="2664000"/>
                <a:ext cx="333360" cy="334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56120" y="2706840"/>
                <a:ext cx="250920" cy="250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5439960" y="1677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88280" y="180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84080" y="1657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68320" y="266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20240" y="26827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88280" y="2813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3176640" y="4589640"/>
              <a:ext cx="501480" cy="500040"/>
              <a:chOff x="3176640" y="4589640"/>
              <a:chExt cx="501480" cy="500040"/>
            </a:xfrm>
          </p:grpSpPr>
          <p:sp>
            <p:nvSpPr>
              <p:cNvPr id="325" name=""/>
              <p:cNvSpPr/>
              <p:nvPr/>
            </p:nvSpPr>
            <p:spPr>
              <a:xfrm>
                <a:off x="3176640" y="4589640"/>
                <a:ext cx="50148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3365640" y="4713120"/>
                <a:ext cx="144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365640" y="4609800"/>
                <a:ext cx="16164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65640" y="4902120"/>
                <a:ext cx="16668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76640" y="4838760"/>
                <a:ext cx="189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3490920" y="496584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3427560" y="5027760"/>
                <a:ext cx="63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 flipV="1">
              <a:off x="3552840" y="4422600"/>
              <a:ext cx="168120" cy="16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720960" y="383652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52840" y="5092560"/>
              <a:ext cx="16812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5259240"/>
              <a:ext cx="1800" cy="920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25360" y="4842000"/>
              <a:ext cx="2176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125360" y="4841640"/>
              <a:ext cx="180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0560" y="6180120"/>
              <a:ext cx="3935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11440" y="475776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37080" y="551196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720960" y="408780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3636720" y="4087800"/>
              <a:ext cx="8388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39600" y="4440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31920" y="5529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80960" y="5661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86840" y="4572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44160" y="39178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96440" y="39387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65920" y="40705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97240" y="45036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65640" y="4608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28400" y="45036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84280" y="47750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32600" y="490680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28400" y="5005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80320" y="50259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48720" y="515772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28400" y="47545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90920" y="4506840"/>
              <a:ext cx="250920" cy="835200"/>
            </a:xfrm>
            <a:custGeom>
              <a:avLst/>
              <a:gdLst/>
              <a:ahLst/>
              <a:rect l="l" t="t" r="r" b="b"/>
              <a:pathLst>
                <a:path w="158" h="526">
                  <a:moveTo>
                    <a:pt x="0" y="0"/>
                  </a:moveTo>
                  <a:lnTo>
                    <a:pt x="53" y="0"/>
                  </a:lnTo>
                  <a:lnTo>
                    <a:pt x="105" y="42"/>
                  </a:lnTo>
                  <a:lnTo>
                    <a:pt x="105" y="262"/>
                  </a:lnTo>
                  <a:lnTo>
                    <a:pt x="158" y="306"/>
                  </a:lnTo>
                  <a:lnTo>
                    <a:pt x="105" y="350"/>
                  </a:lnTo>
                  <a:lnTo>
                    <a:pt x="105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26080" y="492444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26080" y="500868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76640" y="484020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09600" y="4673520"/>
              <a:ext cx="333360" cy="335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800440" y="4841640"/>
              <a:ext cx="144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631960" y="5343480"/>
              <a:ext cx="335160" cy="335160"/>
              <a:chOff x="2631960" y="5343480"/>
              <a:chExt cx="335160" cy="335160"/>
            </a:xfrm>
          </p:grpSpPr>
          <p:sp>
            <p:nvSpPr>
              <p:cNvPr id="366" name=""/>
              <p:cNvSpPr/>
              <p:nvPr/>
            </p:nvSpPr>
            <p:spPr>
              <a:xfrm>
                <a:off x="2631960" y="5343480"/>
                <a:ext cx="335160" cy="335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74800" y="5386320"/>
                <a:ext cx="249480" cy="24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1335240" y="43578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86080" y="4487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81880" y="43369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07520" y="53402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58000" y="53611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748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872640" y="3836880"/>
              <a:ext cx="385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81400" y="3836880"/>
              <a:ext cx="1440" cy="234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97160" y="4087800"/>
              <a:ext cx="166680" cy="33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97160" y="5343480"/>
              <a:ext cx="16668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92000" y="41054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41760" y="4237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06280" y="5361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5604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28840" y="4797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70200" y="4815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4648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70200" y="6102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8784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70080" y="34574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45040" y="34574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5040" y="211932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05120" y="61196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7640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4648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czyny powstawania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51760" y="2384280"/>
            <a:ext cx="58867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Zmiany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Zmiany napięć zasilając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Starzenie się elemen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pływ promieniowania jonizując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3:48:31Z</dcterms:created>
  <dc:creator>Agnieszka Kukawczynska</dc:creator>
  <dc:description/>
  <dc:language>en-US</dc:language>
  <cp:lastModifiedBy>MK</cp:lastModifiedBy>
  <dcterms:modified xsi:type="dcterms:W3CDTF">2003-12-01T06:29:52Z</dcterms:modified>
  <cp:revision>69</cp:revision>
  <dc:subject/>
  <dc:title>Wzmacniacze prądu stałego</dc:title>
</cp:coreProperties>
</file>